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60443"/>
        <c:axId val="27091032"/>
      </c:barChart>
      <c:catAx>
        <c:axId val="33160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91032"/>
        <c:crosses val="autoZero"/>
        <c:auto val="1"/>
        <c:lblAlgn val="ctr"/>
        <c:lblOffset val="100"/>
        <c:noMultiLvlLbl val="0"/>
      </c:catAx>
      <c:valAx>
        <c:axId val="27091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60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066-EE36-43E1-BD41-FE20FAC1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2D0-3D7A-4541-9878-B8201AF5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66B-58FB-490C-B20C-AA4CF631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75E-9462-49B0-B8AB-7AB8F636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08B-A69D-41C1-B5D4-4CEDF52F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F25-35A4-44D9-A84E-C0389FFF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92C-5906-4267-BA1D-537DB23E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A10-F022-4998-B5DD-680FC2E2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92C-73DD-4249-8FEE-E3EC1D30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6A9-CBDA-42F1-87DA-2EE2E3BF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DF0-CBF1-4933-AC3C-E5091447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732-2552-426C-9431-01FE966B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75226-B539-449F-A9CA-4D8E149029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