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95573"/>
        <c:axId val="35546421"/>
      </c:barChart>
      <c:catAx>
        <c:axId val="48395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6421"/>
        <c:crosses val="autoZero"/>
        <c:auto val="1"/>
        <c:lblAlgn val="ctr"/>
        <c:lblOffset val="100"/>
        <c:noMultiLvlLbl val="0"/>
      </c:catAx>
      <c:valAx>
        <c:axId val="35546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95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D0E-E3CF-44CF-8037-6AD07975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37C-7D20-4F1C-A960-35E89960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C42-C4F1-45B2-9B50-5181EDDE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5EA-5B2B-4A0C-8176-8D8AFDC6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DFA-0BF8-466E-A0A8-C536A82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818-D77D-4988-A890-568CECF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7FE-E76D-4726-A806-A646BB4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9BB-1DBF-4E42-9794-C689685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017-0ABF-495B-82BF-C725001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3C7-790A-4175-93D8-5E5A476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8FA-921F-43F3-8F4A-92F0606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CFF-D49B-4B1B-A5D3-AE76AE0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192A7-9889-4E3E-9691-F7D898D40A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