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19133"/>
        <c:axId val="81376593"/>
      </c:barChart>
      <c:catAx>
        <c:axId val="24019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76593"/>
        <c:crosses val="autoZero"/>
        <c:auto val="1"/>
        <c:lblAlgn val="ctr"/>
        <c:lblOffset val="100"/>
        <c:noMultiLvlLbl val="0"/>
      </c:catAx>
      <c:valAx>
        <c:axId val="81376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19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94A-98E6-4E49-A184-DC478665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1BA-8147-4BB2-92E5-3E443AD9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FB6-407E-44CC-90CB-1C9DD9AF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AA5-AD15-42A7-BE85-7855482C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609-83C9-4011-9567-D121F8AC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5AB-7E3D-4CDD-B0E0-0ACFC876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2A1-0986-4FC0-B8AC-4BD5189C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D11-275A-4186-AC7E-D0B1AF8D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945-3822-4C01-AFCF-E3C15B0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BE3-4F8A-40BB-A79C-03E83C2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D9A-1ABB-4AB4-AB74-34DB72C2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8CA-7B42-4BAE-8DC5-237B5F1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98CE5-A7B2-4523-A951-04CAC928D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