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05113"/>
        <c:axId val="10739405"/>
      </c:barChart>
      <c:catAx>
        <c:axId val="65205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9405"/>
        <c:crosses val="autoZero"/>
        <c:auto val="1"/>
        <c:lblAlgn val="ctr"/>
        <c:lblOffset val="100"/>
        <c:noMultiLvlLbl val="0"/>
      </c:catAx>
      <c:valAx>
        <c:axId val="10739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05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2FC-E105-43FD-9F57-69D43289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CE0-1D62-457C-BBE6-1F2B2774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61C-6187-4288-87D2-96764244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D37-1973-46F6-B0A1-032D44C8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D6BA-5168-4548-BA11-A15CEF0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7F4-263D-4618-84B9-4DB67ADD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3AC-B1C5-4DFB-8923-FD605953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18-3711-4596-B628-0941DD59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190-5FAE-4267-B57E-836CAF7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1C4-2309-478A-8121-12603867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3E9-47CA-4530-A074-A806972D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485-B9D2-4FAC-8165-8DA3F714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4CFD1-C18F-4E00-BD88-2DB74206E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