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820325"/>
        <c:axId val="92241025"/>
      </c:barChart>
      <c:catAx>
        <c:axId val="31820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41025"/>
        <c:crosses val="autoZero"/>
        <c:auto val="1"/>
        <c:lblAlgn val="ctr"/>
        <c:lblOffset val="100"/>
        <c:noMultiLvlLbl val="0"/>
      </c:catAx>
      <c:valAx>
        <c:axId val="92241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820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E0C0-065C-4820-9D9B-CB5A2A8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AF9-10A7-45BD-80B2-899EFA68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8E4-C10A-4B7D-88B9-39DD1F56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2580-1326-4F95-A8B3-D4C96181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C43-4435-4F23-8EC4-F5E3767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86E-55ED-4C4E-AE68-0E8AD412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033-9ECD-46F7-B4DB-447C6A1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E97-9990-492A-857C-BB1F9462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C6A-93EF-4E6A-8452-3BBDBD62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2DDF-0998-4BDE-8010-DF7D78BB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C80-1F2C-4DAE-8F27-5E9A1632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08A-D21F-459C-B5DB-F20419CD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88478-1C57-40AF-876F-B763224BF9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