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364794"/>
        <c:axId val="42116095"/>
      </c:barChart>
      <c:catAx>
        <c:axId val="103647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16095"/>
        <c:crosses val="autoZero"/>
        <c:auto val="1"/>
        <c:lblAlgn val="ctr"/>
        <c:lblOffset val="100"/>
        <c:noMultiLvlLbl val="0"/>
      </c:catAx>
      <c:valAx>
        <c:axId val="421160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3647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0C5A-4CB6-4C91-97D0-D606C54E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2CF1-E045-433B-801C-2DF74D51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9EBC-B218-4A8A-9640-BBB5511A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0D35-344D-412A-BB36-CA0FF047D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2929-9212-4656-9245-D1EAFD44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EF55-2DDF-4EC9-B356-83FC937D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36A2-424B-4E61-9987-E5437EE6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27C8-1D92-4F26-B6BA-FFFB3DBD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25DB-C0C8-44F5-B6FB-2550E7E2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FD21-2CC5-4D2D-A00E-0A98B2BE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7DFA-9653-4234-B131-0865F943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94F4-2CD1-489D-A620-169A90FF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09109-152E-4B56-8437-63A319A954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