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81758"/>
        <c:axId val="49341708"/>
      </c:barChart>
      <c:catAx>
        <c:axId val="56681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41708"/>
        <c:crosses val="autoZero"/>
        <c:auto val="1"/>
        <c:lblAlgn val="ctr"/>
        <c:lblOffset val="100"/>
        <c:noMultiLvlLbl val="0"/>
      </c:catAx>
      <c:valAx>
        <c:axId val="49341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81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2D9-15E3-4FB8-AE4F-64529231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AD2-12E5-4AAD-9C9B-08830353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4B2-14AD-445D-B2B6-200BF6F8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5F1-F817-4AD1-84B6-622CDDBF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FBA-4955-47A8-9827-9CD64BD8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7AF-C27F-430B-BA05-B9004C3F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FC2-79A3-4A75-93D9-6581AE12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AE7-84F5-430A-AA40-C0FEC938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D14-2F81-4702-B9B6-C7CC2694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8CC-94EE-473B-814F-E6604B19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E14-89E2-4227-9B5C-557681DF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89E-B48E-42DF-B477-AC819D27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C0300-90B9-4BDB-86B7-4F2B11525D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