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738503"/>
        <c:axId val="22707710"/>
      </c:barChart>
      <c:catAx>
        <c:axId val="107385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707710"/>
        <c:crosses val="autoZero"/>
        <c:auto val="1"/>
        <c:lblAlgn val="ctr"/>
        <c:lblOffset val="100"/>
        <c:noMultiLvlLbl val="0"/>
      </c:catAx>
      <c:valAx>
        <c:axId val="227077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7385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C52-8D95-4496-A44C-102CA66A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AF1-28D9-43A4-ADA5-FA97B41F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02BF-2F74-4B7C-A9FD-B1099A20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32E-E32A-4EDE-A619-95637561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04E-DBDD-4BA7-8458-566EB5B6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1784-BF7E-4D7D-923B-66A0BA28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8B09-EEC6-44C9-A96A-F0E7338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1434-80FF-4AE2-8514-1C247AA76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EFB6-7B03-499E-A6C1-1F176B19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019-CAAE-4544-8371-967436C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E7CF-B26B-4D53-A8B2-4B8FDFDA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165C-1271-4A45-8A08-A8E67E96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3A4D1-ACBB-4FD7-A004-E6FA39CA50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