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21230"/>
        <c:axId val="53594017"/>
      </c:barChart>
      <c:catAx>
        <c:axId val="14121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94017"/>
        <c:crosses val="autoZero"/>
        <c:auto val="1"/>
        <c:lblAlgn val="ctr"/>
        <c:lblOffset val="100"/>
        <c:noMultiLvlLbl val="0"/>
      </c:catAx>
      <c:valAx>
        <c:axId val="53594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21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273-C463-4BA6-8132-0A6C7001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9F5-A53E-48F3-8397-43285F4B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0CF-64C0-4741-9819-43BBCF16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E62-E8CF-4965-9CBA-F4525ACF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609-2D96-45B4-8763-8357357C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452-2965-4B38-B13B-A541A3AD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24F-A223-4E03-B55E-3ED88AC9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7DF-7818-4532-BFCC-AE9A7AFC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F77-9D5B-47DC-8F57-E531FD80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5704-DD7E-4BCC-96F3-B9FFE403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C97-5716-4533-9F73-E939841D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520-2C21-4342-9CF1-659EF991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185D5-9F04-48BB-A0CE-B37439E88E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