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31737"/>
        <c:axId val="97706268"/>
      </c:barChart>
      <c:catAx>
        <c:axId val="38331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06268"/>
        <c:crosses val="autoZero"/>
        <c:auto val="1"/>
        <c:lblAlgn val="ctr"/>
        <c:lblOffset val="100"/>
        <c:noMultiLvlLbl val="0"/>
      </c:catAx>
      <c:valAx>
        <c:axId val="977062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31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9033-50B5-49FE-BA62-8B508C1A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359-94AE-4D39-9092-EDDA9C47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4AB-41FC-4E10-A3B5-4540C23B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6BB-14DE-4C16-951E-01C8A2FF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C19-8FE9-4BCD-AE88-47DE6E76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BFD-53C2-4224-A8B6-D86AB68E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54F-23C7-4B77-97D6-B165DB68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01E-092E-4E25-8D77-0B0B5FB9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5F6-403B-4639-8B0B-BBC2C9DB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2B9-A893-4CB4-97D6-C9395CA2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D07-C611-4170-8E2D-BE2E02F1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229-A4DF-4D88-8796-A96E907D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B29B1-D03D-44C2-8936-2845347F43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