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7166"/>
        <c:axId val="36864961"/>
      </c:barChart>
      <c:catAx>
        <c:axId val="5067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64961"/>
        <c:crosses val="autoZero"/>
        <c:auto val="1"/>
        <c:lblAlgn val="ctr"/>
        <c:lblOffset val="100"/>
        <c:noMultiLvlLbl val="0"/>
      </c:catAx>
      <c:valAx>
        <c:axId val="36864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7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7C0-CF09-4A55-A959-42DAFE09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9A7-499C-4999-9B0C-7928049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424-64B0-4FE2-8C56-1954FE07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082-7852-44A9-ADCF-8B873C87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7E9-1581-4400-B761-50111D5F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7E4-E70A-4058-B348-F947341F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FEC-FF3C-41F5-966D-F8CAD5DF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DAE-3307-4677-8945-48196F35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006-A0FE-4213-96F1-0229421C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129-3689-4AFA-BCA1-5B3146AA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695-0A2F-4E02-9C4F-AB484F64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A4E-D8AA-479D-B802-8F1AB981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3F347-B452-4736-B683-1A7E55D19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