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58063"/>
        <c:axId val="51318052"/>
      </c:barChart>
      <c:catAx>
        <c:axId val="106580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18052"/>
        <c:crosses val="autoZero"/>
        <c:auto val="1"/>
        <c:lblAlgn val="ctr"/>
        <c:lblOffset val="100"/>
        <c:noMultiLvlLbl val="0"/>
      </c:catAx>
      <c:valAx>
        <c:axId val="51318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580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49F-8E33-4D9C-B4E0-C9EE2560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523-DBCC-43A5-B26E-FD504DC8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D7D-3A4D-47FD-842E-329461E6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8C5-EE20-4A7C-BB22-53C17401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A9E-9E28-4563-8C57-5DD40A49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DE1-FB97-4061-87B0-78C2B603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270-12AF-4359-977B-5525F6C0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8D9-42AF-4D8F-9450-410C7880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879-F99E-4C68-809B-157B090E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F7E-E70E-4A87-95C8-D4B00709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462-0ECE-442F-8B72-BD40C035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9ED-08E3-49A1-A3A0-D2493A47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31491-5F6B-455F-9116-4543866122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