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416977"/>
        <c:axId val="70509540"/>
      </c:barChart>
      <c:catAx>
        <c:axId val="744169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09540"/>
        <c:crosses val="autoZero"/>
        <c:auto val="1"/>
        <c:lblAlgn val="ctr"/>
        <c:lblOffset val="100"/>
        <c:noMultiLvlLbl val="0"/>
      </c:catAx>
      <c:valAx>
        <c:axId val="705095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169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6E31-DBC6-4330-9A74-62244846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8C8E-C282-4691-9627-A8A25FA4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29B4-1DA0-4FE6-931D-308A7C38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CB72-0486-40C3-AF07-B23D4036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2CD3-BB34-469A-840D-D8767372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5EED-A517-4DC0-A25A-54DBE48A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0D82-2AC7-4791-B432-79821466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5F3-0B59-4078-9124-C90710C5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D9D4-75F7-44AA-999F-61C505E7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1859-7CA2-4D77-80B8-0C1B8BD5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426D-F761-4039-94B4-A51051BA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E522-0CE6-4FC8-AAD2-9A013E8F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60825-A54C-4E7B-95A8-D04F4E9E0E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