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779060"/>
        <c:axId val="53954411"/>
      </c:barChart>
      <c:catAx>
        <c:axId val="837790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54411"/>
        <c:crosses val="autoZero"/>
        <c:auto val="1"/>
        <c:lblAlgn val="ctr"/>
        <c:lblOffset val="100"/>
        <c:noMultiLvlLbl val="0"/>
      </c:catAx>
      <c:valAx>
        <c:axId val="539544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790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2EF1-2F4A-4BFE-9DDF-64949A24B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EB84-C7C8-4337-9857-B92E5A9A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9CAB-CEC0-4607-8A38-75C78347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92ED-5363-486D-8739-F810A2E64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B4CB-E45D-4D2E-9B4A-B90D3A61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06B9-4D71-4EFF-AE64-0B63EFD3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E5DF-AAD0-49CF-B58B-8506E7AA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3253-C661-4638-94BF-2A44542D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AA11-6AA3-4877-89AA-BAD6D4A0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EFCA-261F-48C6-BE57-D3118292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7A23-62A4-490F-8C65-57FF281F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81E8-973D-4F15-AC7F-8C775258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43836-382F-4002-BA30-63FA973FE5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