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31341"/>
        <c:axId val="65160651"/>
      </c:barChart>
      <c:catAx>
        <c:axId val="88331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60651"/>
        <c:crosses val="autoZero"/>
        <c:auto val="1"/>
        <c:lblAlgn val="ctr"/>
        <c:lblOffset val="100"/>
        <c:noMultiLvlLbl val="0"/>
      </c:catAx>
      <c:valAx>
        <c:axId val="65160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31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386-72E8-426D-97B4-8B3AD003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5D4-E47A-4FD0-A372-0A89F76B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239-F345-4427-9D53-A050ED27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19B-E4FC-47F9-9EDA-1A167226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498-A5CB-44B7-9023-B2421BFF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EB0-B809-476D-8C39-599D088C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474-41F0-474A-83C7-401D05B9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A1A-73B4-47DD-924B-3FF36485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27A-2E1A-4323-A284-D05284A0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9D0-799B-413E-A57E-FE010A7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4ED-AC93-4713-BFD5-60EF2C4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FA0-A491-435F-8B0E-815B5AA8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56C13-56CB-4F78-9A0F-D7911432E3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