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65078"/>
        <c:axId val="8777193"/>
      </c:barChart>
      <c:catAx>
        <c:axId val="38765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193"/>
        <c:crosses val="autoZero"/>
        <c:auto val="1"/>
        <c:lblAlgn val="ctr"/>
        <c:lblOffset val="100"/>
        <c:noMultiLvlLbl val="0"/>
      </c:catAx>
      <c:valAx>
        <c:axId val="8777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5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0A3-22CC-42E1-9E47-CBA7CF54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4AF-A20F-4115-85EE-3B1C33AA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D65-D425-4259-B383-18E477A9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163-DC4C-485B-B29F-B1B93FBA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FD0-229A-41BE-838E-B3A975D4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C8D-9DC8-496D-A5A9-237E554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24C-2D8F-4E48-A7CD-BB88BE2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5EC-3526-4E18-909F-2EC4480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923-299A-454E-BC7C-3971E46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B64-5861-4174-9345-26AE547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876-4CDF-4CFC-A009-53A765D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4ED-9FE2-426B-987C-9F1AEC3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6CE25-4E57-4AC7-88CC-C02EC4632F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