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41323"/>
        <c:axId val="4155099"/>
      </c:barChart>
      <c:catAx>
        <c:axId val="70041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099"/>
        <c:crosses val="autoZero"/>
        <c:auto val="1"/>
        <c:lblAlgn val="ctr"/>
        <c:lblOffset val="100"/>
        <c:noMultiLvlLbl val="0"/>
      </c:catAx>
      <c:valAx>
        <c:axId val="4155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41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D12-B241-42E4-8E4A-40CF76BB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2C6-FBF5-412A-B363-687CFF57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730-8C0C-45CF-801D-32067ADB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8F1-30FE-41F6-8C3B-958565BE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5B1-5E6C-4357-B892-14F2D769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074-F277-4D6D-A875-0EE1FB99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69D-1E99-46FD-AED3-A6AC4BB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D00-F109-4CAB-B969-BED0F2D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DAE-BF12-493A-A02D-B6AEDADA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29B-C46F-4C84-BC26-551CC58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335-41D6-416C-A978-2C85504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8D6-9197-42FC-9989-1FFABA81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2E69C-9C8B-46EB-AA67-A0D06D99A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