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563123"/>
        <c:axId val="38771509"/>
      </c:barChart>
      <c:catAx>
        <c:axId val="675631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71509"/>
        <c:crosses val="autoZero"/>
        <c:auto val="1"/>
        <c:lblAlgn val="ctr"/>
        <c:lblOffset val="100"/>
        <c:noMultiLvlLbl val="0"/>
      </c:catAx>
      <c:valAx>
        <c:axId val="387715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631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7EA1-A838-406A-96FD-3F95D5B7D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CBBE-8B17-485E-A251-45F7F8A4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4B7F-E769-4EAC-960C-F49C6CCC0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1F1A-27D8-4302-B2E3-1011D955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C4A0-6B0F-4DA9-9082-90ECAE0C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2E0D-249F-4B41-99DA-E80BCBF3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21E0-24C7-45F2-B40A-57B8A9D9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2015-4AC1-4C35-B88F-2C0456F7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D28B-E303-4A3B-9408-D5DE654D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A10E-89BB-4F76-A819-0990DE10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D777-4272-42AA-B500-5A55860B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0BD1-DD02-40F9-ABB2-57077BA5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858128-CC39-42DE-BEC6-4E5E51945F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