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68347"/>
        <c:axId val="95893329"/>
      </c:barChart>
      <c:catAx>
        <c:axId val="4068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93329"/>
        <c:crosses val="autoZero"/>
        <c:auto val="1"/>
        <c:lblAlgn val="ctr"/>
        <c:lblOffset val="100"/>
        <c:noMultiLvlLbl val="0"/>
      </c:catAx>
      <c:valAx>
        <c:axId val="958933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8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8592-7591-4BCB-9303-B575CCEF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682-6116-49FB-B631-F682F349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9B49-0B28-4656-BB3F-F9484CB4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C12-3647-4566-933C-484F42E2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33F3-D3A3-4E8D-B6A8-C16867AF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944-E02D-4F0E-BC3D-687B3987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FEF-AD46-4887-84E7-BD33E932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4C0F-1618-46ED-A531-1E1EB417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F18-BA35-480C-83C7-02E4E2C7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B114-8015-483B-BE22-DDD0D388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B04C-CD4E-49F6-9678-35DBE264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D3C8-205B-41B5-BF22-D226529B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BD13D-AEC7-4D32-9265-C9AF34185C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