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804007"/>
        <c:axId val="17328098"/>
      </c:barChart>
      <c:catAx>
        <c:axId val="478040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28098"/>
        <c:crosses val="autoZero"/>
        <c:auto val="1"/>
        <c:lblAlgn val="ctr"/>
        <c:lblOffset val="100"/>
        <c:noMultiLvlLbl val="0"/>
      </c:catAx>
      <c:valAx>
        <c:axId val="173280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040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9DF7-3DDD-4C36-80F9-5341D8D8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74AA-DF2A-4392-BF6D-FE181386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DB40-2C79-4865-A506-C2409BC3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92C-8110-4CF7-87A2-EC5C5E2A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DCB-A1CD-487C-BE2C-477E9452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A2F3-F9C5-42CC-B374-BB62DCB5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276-FE6E-4318-8652-D3814341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3DF-0EBE-4C2E-B69C-66880366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5C36-C2E8-4394-8D2D-24AD252F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65F-6549-43A8-9156-DCBA4313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EB8-62F1-4560-8A3A-6125EC6D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3B0-3406-49E0-A712-BF3BF89C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2DF3B-B145-42AF-97F1-2DAC60DED9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