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051788"/>
        <c:axId val="56583416"/>
      </c:barChart>
      <c:catAx>
        <c:axId val="270517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83416"/>
        <c:crosses val="autoZero"/>
        <c:auto val="1"/>
        <c:lblAlgn val="ctr"/>
        <c:lblOffset val="100"/>
        <c:noMultiLvlLbl val="0"/>
      </c:catAx>
      <c:valAx>
        <c:axId val="565834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517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27E7-B1F5-418C-A1F0-ACBCD7A7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5F3C-5823-4AA2-A755-1ACD7787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FC8D-37C7-4EAF-96E9-9EDC905CA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4546-DB07-4290-A49A-0B03515F8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8592-DCE7-480E-AC63-80997AEC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3768-170F-4DBA-BFDB-E5AB0D34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6167-1FB5-4844-8554-8E9D43D2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69F5-C84F-4B4F-B9D7-1D888952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7BE7-3DE8-4727-9586-1BE76599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BD41-AAA7-4E77-8298-7E987248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3B2B-D77D-435C-A75E-53413EDA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7F4A-4949-47D2-88D8-52C9D4AE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7D493-5546-408A-9175-8395CD23F9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