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640961"/>
        <c:axId val="3367623"/>
      </c:barChart>
      <c:catAx>
        <c:axId val="816409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67623"/>
        <c:crosses val="autoZero"/>
        <c:auto val="1"/>
        <c:lblAlgn val="ctr"/>
        <c:lblOffset val="100"/>
        <c:noMultiLvlLbl val="0"/>
      </c:catAx>
      <c:valAx>
        <c:axId val="336762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6409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48AF92-DE4B-484E-8994-A5D90801A4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43542-0562-4EC2-A95D-48A6B0160E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1C0E5-55B2-471A-9263-51EACC766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8CD8B-839F-4B38-A7A8-C83CA41D1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3228F-B8DE-4931-9B2A-87CB1C424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D8EBE-0196-420F-B99F-3660FBA78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27D88-FAD3-43DC-AE8C-CF994B7F3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3025F-118C-4552-871C-B09C7B6D5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EA260-D960-46FF-BB87-6498270EEA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988D7-A0FC-43E0-8612-835674A922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B243-9B81-4283-A898-B19689613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99AEC-73C8-4510-BEC9-6332576DD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EE53AE1-9415-4DAD-ACF7-369521A5DA5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