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30480-4B84-4F10-8E57-FA5A28E39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C6C8C-27EF-4098-B524-C85336C73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B2575-B2FC-40FA-AFE1-DA086047F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C4AC8-AAA0-45D8-9AAE-8AF82496A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59D43-CC06-4FF8-8009-98DB60958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31DDA-47D1-42B9-9C07-567EEDD51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7EAF3-BC02-4292-81EB-599CB8294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364A2-668D-4B71-ABF9-7E9FA64DB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D27C0-B59A-4367-8B15-A4B0551EB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DD4ED-65F5-4CE7-BF54-337CAACA4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15095-BD83-4CED-86A9-0FC906571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F88A9-4E1D-42B6-BEC6-0C55975B4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CB173-3D81-4518-9A51-6492FF869B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5.png"/><Relationship Id="rId16" Type="http://schemas.openxmlformats.org/officeDocument/2006/relationships/image" Target="../media/image16.png"/><Relationship Id="rId17" Type="http://schemas.openxmlformats.org/officeDocument/2006/relationships/image" Target="../media/image17.png"/><Relationship Id="rId18" Type="http://schemas.openxmlformats.org/officeDocument/2006/relationships/image" Target="../media/image18.png"/><Relationship Id="rId19" Type="http://schemas.openxmlformats.org/officeDocument/2006/relationships/image" Target="../media/image19.png"/><Relationship Id="rId20" Type="http://schemas.openxmlformats.org/officeDocument/2006/relationships/image" Target="../media/image20.png"/><Relationship Id="rId21" Type="http://schemas.openxmlformats.org/officeDocument/2006/relationships/image" Target="../media/image21.png"/><Relationship Id="rId22" Type="http://schemas.openxmlformats.org/officeDocument/2006/relationships/image" Target="../media/image22.png"/><Relationship Id="rId23" Type="http://schemas.openxmlformats.org/officeDocument/2006/relationships/image" Target="../media/image23.png"/><Relationship Id="rId24" Type="http://schemas.openxmlformats.org/officeDocument/2006/relationships/image" Target="../media/image24.png"/><Relationship Id="rId25" Type="http://schemas.openxmlformats.org/officeDocument/2006/relationships/image" Target="../media/image25.png"/><Relationship Id="rId26" Type="http://schemas.openxmlformats.org/officeDocument/2006/relationships/image" Target="../media/image26.png"/><Relationship Id="rId27" Type="http://schemas.openxmlformats.org/officeDocument/2006/relationships/image" Target="../media/image27.png"/><Relationship Id="rId28" Type="http://schemas.openxmlformats.org/officeDocument/2006/relationships/image" Target="../media/image28.png"/><Relationship Id="rId29" Type="http://schemas.openxmlformats.org/officeDocument/2006/relationships/image" Target="../media/image29.png"/><Relationship Id="rId30" Type="http://schemas.openxmlformats.org/officeDocument/2006/relationships/image" Target="../media/image30.png"/><Relationship Id="rId31" Type="http://schemas.openxmlformats.org/officeDocument/2006/relationships/image" Target="../media/image31.png"/><Relationship Id="rId32" Type="http://schemas.openxmlformats.org/officeDocument/2006/relationships/image" Target="../media/image32.png"/><Relationship Id="rId33" Type="http://schemas.openxmlformats.org/officeDocument/2006/relationships/image" Target="../media/image33.png"/><Relationship Id="rId34" Type="http://schemas.openxmlformats.org/officeDocument/2006/relationships/image" Target="../media/image34.png"/><Relationship Id="rId35" Type="http://schemas.openxmlformats.org/officeDocument/2006/relationships/image" Target="../media/image35.png"/><Relationship Id="rId36" Type="http://schemas.openxmlformats.org/officeDocument/2006/relationships/image" Target="../media/image36.png"/><Relationship Id="rId37" Type="http://schemas.openxmlformats.org/officeDocument/2006/relationships/image" Target="../media/image37.png"/><Relationship Id="rId38" Type="http://schemas.openxmlformats.org/officeDocument/2006/relationships/image" Target="../media/image20.png"/><Relationship Id="rId39" Type="http://schemas.openxmlformats.org/officeDocument/2006/relationships/image" Target="../media/image21.png"/><Relationship Id="rId40" Type="http://schemas.openxmlformats.org/officeDocument/2006/relationships/image" Target="../media/image22.png"/><Relationship Id="rId41" Type="http://schemas.openxmlformats.org/officeDocument/2006/relationships/image" Target="../media/image23.png"/><Relationship Id="rId42" Type="http://schemas.openxmlformats.org/officeDocument/2006/relationships/image" Target="../media/image24.png"/><Relationship Id="rId43" Type="http://schemas.openxmlformats.org/officeDocument/2006/relationships/image" Target="../media/image19.png"/><Relationship Id="rId44" Type="http://schemas.openxmlformats.org/officeDocument/2006/relationships/image" Target="../media/image20.png"/><Relationship Id="rId45" Type="http://schemas.openxmlformats.org/officeDocument/2006/relationships/image" Target="../media/image21.png"/><Relationship Id="rId46" Type="http://schemas.openxmlformats.org/officeDocument/2006/relationships/image" Target="../media/image22.png"/><Relationship Id="rId47" Type="http://schemas.openxmlformats.org/officeDocument/2006/relationships/image" Target="../media/image23.png"/><Relationship Id="rId48" Type="http://schemas.openxmlformats.org/officeDocument/2006/relationships/image" Target="../media/image24.png"/><Relationship Id="rId4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39640" y="2422440"/>
            <a:ext cx="432000" cy="4320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755640" y="2638440"/>
            <a:ext cx="431640" cy="4316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71640" y="2854440"/>
            <a:ext cx="431640" cy="43164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187280" y="3070080"/>
            <a:ext cx="432000" cy="432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3286080"/>
            <a:ext cx="432000" cy="4320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619280" y="3502080"/>
            <a:ext cx="431640" cy="43164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476360" y="2422440"/>
            <a:ext cx="431640" cy="4320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692360" y="2638440"/>
            <a:ext cx="431640" cy="4316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854440"/>
            <a:ext cx="432000" cy="431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124000" y="3070080"/>
            <a:ext cx="432000" cy="43200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340000" y="3286080"/>
            <a:ext cx="431640" cy="43200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56000" y="3502080"/>
            <a:ext cx="431640" cy="43164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413080" y="2422440"/>
            <a:ext cx="431640" cy="4320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29080" y="2638440"/>
            <a:ext cx="431640" cy="4316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44720" y="2854440"/>
            <a:ext cx="432000" cy="4316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60720" y="3070080"/>
            <a:ext cx="431640" cy="4320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76720" y="3286080"/>
            <a:ext cx="431640" cy="43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92360" y="3502080"/>
            <a:ext cx="432000" cy="43164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349800" y="2422440"/>
            <a:ext cx="431640" cy="43200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65440" y="2638440"/>
            <a:ext cx="432000" cy="43164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781440" y="2854440"/>
            <a:ext cx="431640" cy="43164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97440" y="3070080"/>
            <a:ext cx="431640" cy="43200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3080" y="3286080"/>
            <a:ext cx="432000" cy="43200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9080" y="3502080"/>
            <a:ext cx="432000" cy="43164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2422440"/>
            <a:ext cx="431640" cy="4320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500720" y="2638440"/>
            <a:ext cx="431640" cy="43164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16360" y="2854440"/>
            <a:ext cx="432000" cy="43164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32360" y="3070080"/>
            <a:ext cx="431640" cy="4320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148360" y="3286080"/>
            <a:ext cx="431640" cy="4320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64000" y="3502080"/>
            <a:ext cx="432000" cy="43164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221440" y="2422440"/>
            <a:ext cx="431640" cy="4320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7080" y="2638440"/>
            <a:ext cx="432000" cy="43164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653080" y="2854440"/>
            <a:ext cx="431640" cy="43164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69080" y="3070080"/>
            <a:ext cx="431640" cy="43200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084720" y="3286080"/>
            <a:ext cx="432000" cy="43200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300720" y="3502080"/>
            <a:ext cx="432000" cy="43164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157800" y="2422440"/>
            <a:ext cx="432000" cy="43200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373800" y="2638440"/>
            <a:ext cx="431640" cy="431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589800" y="2854440"/>
            <a:ext cx="431640" cy="43164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805440" y="3070080"/>
            <a:ext cx="432000" cy="4320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021440" y="3286080"/>
            <a:ext cx="432000" cy="43200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7237440" y="3502080"/>
            <a:ext cx="431640" cy="4316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093080" y="2422440"/>
            <a:ext cx="431640" cy="43200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308720" y="2638440"/>
            <a:ext cx="432000" cy="4316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524720" y="2854440"/>
            <a:ext cx="432000" cy="43164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7740720" y="3070080"/>
            <a:ext cx="431640" cy="4320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956720" y="3286080"/>
            <a:ext cx="431640" cy="4320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8172360" y="3502080"/>
            <a:ext cx="432000" cy="431640"/>
          </a:xfrm>
          <a:prstGeom prst="rect">
            <a:avLst/>
          </a:prstGeom>
          <a:blipFill rotWithShape="0">
            <a:blip r:embed="rId4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7T16:12:43Z</dcterms:created>
  <dc:creator>TungHacker</dc:creator>
  <dc:description/>
  <dc:language>en-US</dc:language>
  <cp:lastModifiedBy>TungHacker</cp:lastModifiedBy>
  <dcterms:modified xsi:type="dcterms:W3CDTF">2017-01-07T16:16:42Z</dcterms:modified>
  <cp:revision>3</cp:revision>
  <dc:subject/>
  <dc:title>Slide 1</dc:title>
</cp:coreProperties>
</file>