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60891"/>
        <c:axId val="298040"/>
      </c:barChart>
      <c:catAx>
        <c:axId val="39160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040"/>
        <c:crosses val="autoZero"/>
        <c:auto val="1"/>
        <c:lblAlgn val="ctr"/>
        <c:lblOffset val="100"/>
        <c:noMultiLvlLbl val="0"/>
      </c:catAx>
      <c:valAx>
        <c:axId val="2980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60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216-FFB1-4F14-A7BC-FD611BFF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11E-09A1-4CC3-B28D-D723B675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E7F-465E-4B60-A647-91091AAA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FDB-5118-4D01-9225-307BA7C0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B65-52D3-425F-9A38-4C78B693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D36-AEC3-4C9D-8484-88D493C4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50E-AF6F-40F2-81AA-B8A69B89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15F-68ED-45F3-AE04-B009CBB2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37F-B25F-415F-8C45-45781C3E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9750-B588-48F9-A733-9DB48FA6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BADC-F2A1-46AC-B6D0-DD3F20A3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0766-1439-46BB-8107-3CA27A59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5C460-32DB-4F29-BAFA-642C79F775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