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0170"/>
        <c:axId val="54858264"/>
      </c:barChart>
      <c:catAx>
        <c:axId val="267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58264"/>
        <c:crosses val="autoZero"/>
        <c:auto val="1"/>
        <c:lblAlgn val="ctr"/>
        <c:lblOffset val="100"/>
        <c:noMultiLvlLbl val="0"/>
      </c:catAx>
      <c:valAx>
        <c:axId val="54858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FB9-76F2-4EB9-B492-EFBD1A2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2D1-AC3D-4210-8452-36E17B94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1D3-56A6-47CF-9BFC-54E81F45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129-CE33-4520-9A75-05441620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CBB-1189-40D8-A303-1B4923F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76B-9555-4E99-A684-6DE0E34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2F6-C8DF-4313-9884-5B36EA74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A18-381F-4149-99D8-EAE1A03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082-5AE5-4EE0-BEF1-0CDA417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F39-6F72-442E-844D-BEA340D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D98-7E5B-473C-AD9A-0FB7514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914-4D5E-47E0-8528-8C6E66A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2F9D6-C36A-41C6-97AF-77513EB80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