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66496"/>
        <c:axId val="90584794"/>
      </c:barChart>
      <c:catAx>
        <c:axId val="296664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84794"/>
        <c:crosses val="autoZero"/>
        <c:auto val="1"/>
        <c:lblAlgn val="ctr"/>
        <c:lblOffset val="100"/>
        <c:noMultiLvlLbl val="0"/>
      </c:catAx>
      <c:valAx>
        <c:axId val="905847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664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EAC-A707-4B0C-ADB7-7000671B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15A1-EC2D-4463-A975-649EB083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82A-09F6-4BBB-9AE0-E0A43DA1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AB1E-6C8A-4A71-BAE5-10B8E5F6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9E0F-DAC9-454D-BE5F-A0D2C4BD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5E2-1D82-4390-A2B6-3087FC36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2B4-A1D5-46C1-BC98-520705FE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5A7-7095-4F0A-8F03-F80135A2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BF2-EFC7-42E9-A163-8849DC34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814-2F7A-4E89-86BF-0DBE8341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7BD-739A-4F7E-9CEB-E24EA647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A036-2678-4B01-9C00-B23451DA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5DC2F-60DE-4F45-BFDD-BC86F6D1C0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