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49145"/>
        <c:axId val="36558467"/>
      </c:barChart>
      <c:catAx>
        <c:axId val="36049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58467"/>
        <c:crosses val="autoZero"/>
        <c:auto val="1"/>
        <c:lblAlgn val="ctr"/>
        <c:lblOffset val="100"/>
        <c:noMultiLvlLbl val="0"/>
      </c:catAx>
      <c:valAx>
        <c:axId val="36558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49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F17-5771-4B45-A865-40BC30B4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73E-62F5-4A75-8EC2-BA3A0B38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A90-4950-4A09-87A5-7EEF4422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631-BECC-4AED-81C3-104DF329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BC2-BD25-4EA9-B375-CA41D64B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E60-4175-4A1F-AB52-0A617600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2BA-8134-4901-A419-852A5B9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293-DD33-440C-80DE-F17162D8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FB7-997A-42A4-8AB0-DA481E57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373-1427-4792-9E53-180A2AB3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FBC-69CA-4D6D-9A07-5C18F535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C31-6BE7-4D13-A4D4-7389B6EF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1E7EE-A59B-4C4A-B497-2C75CB2F89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