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043487"/>
        <c:axId val="35786561"/>
      </c:barChart>
      <c:catAx>
        <c:axId val="470434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786561"/>
        <c:crosses val="autoZero"/>
        <c:auto val="1"/>
        <c:lblAlgn val="ctr"/>
        <c:lblOffset val="100"/>
        <c:noMultiLvlLbl val="0"/>
      </c:catAx>
      <c:valAx>
        <c:axId val="357865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0434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6D31-94F2-4A4D-BAF0-05D29FD6F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2B15-0DC6-400D-B8B5-5C2EA3A50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A01B-FB89-4230-A413-B0FF933C4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E029-0EB3-44A6-A090-FB1E70708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3C2A-778F-4922-904C-ECF0ED527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9023-25F8-468C-83ED-F59EA9A87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2BB2-670C-4EF9-9F57-0E1F5ED0D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03F6-72F3-4ED3-82D8-751919E16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18CA-2775-48F4-81AF-CAFA4675A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70B6-8860-41CE-A3D8-054C60F7C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FA84-111A-4EA1-A0E1-6A8C22FA5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74E1-3BAB-4643-8DE6-D4CD6AC07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402D2B-E448-4277-8F58-F2DFB864B6A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