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79704"/>
        <c:axId val="72006695"/>
      </c:barChart>
      <c:catAx>
        <c:axId val="19779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06695"/>
        <c:crosses val="autoZero"/>
        <c:auto val="1"/>
        <c:lblAlgn val="ctr"/>
        <c:lblOffset val="100"/>
        <c:noMultiLvlLbl val="0"/>
      </c:catAx>
      <c:valAx>
        <c:axId val="72006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79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8E6-6218-4023-BBD3-3D4D5111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67F-D0A6-4E1A-A389-1CC7B29B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541-8DC8-48A1-AF92-CA83C432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017-82A1-49C3-8ACD-B24564F1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A76-E798-4A6F-AD10-5C8E5FEC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675-315A-45C7-9377-6540A234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E96-6247-4739-ADF6-9E3E6443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51E-EEA3-4432-A90B-BFB1A7D6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207-112E-4621-9E08-32253C21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94E-073F-4A50-8840-D654D025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EDC-6DDF-4B92-A2DB-FFC7CF2A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DDE-3D37-41A0-A8E5-A9AF4232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125AD-BCC3-4280-BA58-9A765BF2C3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