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10772"/>
        <c:axId val="3876345"/>
      </c:barChart>
      <c:catAx>
        <c:axId val="69107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76345"/>
        <c:crosses val="autoZero"/>
        <c:auto val="1"/>
        <c:lblAlgn val="ctr"/>
        <c:lblOffset val="100"/>
        <c:noMultiLvlLbl val="0"/>
      </c:catAx>
      <c:valAx>
        <c:axId val="38763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107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43C7-F795-4D94-BC36-A10B90B80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07C9-F8F6-4A78-9E7C-8105A8945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5142-DD6A-4146-B379-EC646C7CF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BF4F-2204-4861-9892-311945966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A535-0474-49CD-B71A-ABBC3A4C4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6C4D-A179-4D9B-8A34-56117BCAC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1BCB-4907-4675-AE2E-862E02443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B3E0-6784-42D9-9268-D7A888DCB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0806-10D1-4DD5-9C2C-62ADE4400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9F95-ED66-42D3-86EF-9AAC4645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8012-D1A1-417A-8816-850584E1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AB66-3C51-4B28-900C-4242228C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9FF5F2-C1A0-4ADA-B430-AC289489DBC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