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38779"/>
        <c:axId val="74243451"/>
      </c:barChart>
      <c:catAx>
        <c:axId val="15538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43451"/>
        <c:crosses val="autoZero"/>
        <c:auto val="1"/>
        <c:lblAlgn val="ctr"/>
        <c:lblOffset val="100"/>
        <c:noMultiLvlLbl val="0"/>
      </c:catAx>
      <c:valAx>
        <c:axId val="74243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38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5C6-1482-4421-AF0D-2D9952C0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8B0-FF5A-44D8-AE3A-2955DDD1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7CFD-6AF3-41A9-8879-DD6A652A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817-9F67-42C7-AB4E-51C89DCE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921-0206-48F7-8D85-AB2EF882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C91-28AA-4B74-9F48-F2ADFC30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D44-6297-40F0-B02C-BAFE8A8B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7FA-3870-4B03-BC53-BF46BD71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C41-F374-4215-9313-5C594893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BD4-FB1D-4A2A-80ED-CA318772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51F-49B7-46B7-ABE7-3402444C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E423-C49A-4196-82A4-DB5932FB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7B349-F494-4D53-AA74-AA4104ECB9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