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9AE8DA0-14F0-4B51-B3A5-4E6978D09DE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4B9CBB2-D2E0-4641-8A41-0F77E0F6C78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0B1FB17-A586-4A9D-B22E-8B9AF32F06C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EE12DEA-930F-45B1-A86A-3054EC7E711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27A5D8F-BE0B-486A-B824-D133BFC0A48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A93DE14-0B19-484D-B8AF-85802470111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91504DF-5825-4542-A09B-BF2C4F3EA49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CF81CFF-492E-4972-863D-5A9647FD04D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4EAFA0C-CD58-4F05-A7F3-ABD9CF8033F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5BDF8F1-1BB0-4AB6-BADA-57C5225296C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24BC5C6-E0B5-4A03-9D52-A245445519D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8072987-BBD9-4FBE-8180-FC54D0D109B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22959BE-E2A8-4D96-A2FD-20059BE21A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8DFFCA-A86F-4A95-8755-E9BCB62C67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DEB9B68-F6D3-402B-A7C4-126B4CA9B2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2C8EAB2-633C-459A-9A92-FFBEE17464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7C24023-D6DA-4D40-AF69-A2CE700BAB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6606CA4-E280-43BC-AE5C-11FC4B4B78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36FA0E7-4C8C-4FAC-AFFE-5B686A2938C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8FE44CC-D497-4D73-9711-0A4D4F4741B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4D90D07-1BD3-4EAE-B7FD-109731BCE3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D9DC3EE-4AA1-4005-8D8E-36448ADCB1F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BB000FE-0CBE-4DFE-A537-C84A6E65C7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72B9D6-11AD-4831-85D0-D2DDA57718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4661E92-726E-476F-BE3C-E2A5EDE90BB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63016DC-3872-4461-A14F-7A5FD2744BD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8D40246-771F-41DF-A594-BB8075B4E8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15F4AE4-5F2A-429E-81B4-3C4CDD573ED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865F08F-1DD8-4EB0-8002-6F54FD7378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C2E485-27F2-48B7-92EA-C4CDCC3209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4DE7223-21EB-49CD-843B-B63A974F6E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09BACF-9AF5-4457-8B5B-015CA2877F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F485C9-E1BD-4037-8EF4-A99BAA25B7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BBD0A0-EB90-4BC3-82D4-FDF76847B0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97F4EF-8DDF-4F77-BC8C-9F9EC72CAA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2EA99D-A070-426F-A7FB-EEC63B781C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72548-8DB7-4734-9669-9BCED1E2948A}"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CC0BF-FC66-4981-8AE3-6C698C6D777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9457B01-FBD1-4831-BA93-0BEF7D787359}"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330D4E-0061-40AA-92BB-27C4CF8FBE8B}"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08F99E-34AB-4D2A-9D40-2003D47D2AD6}"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9763F67-8AC0-493F-A31E-D1CDAB07C15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89BDD0E-FB5D-42C3-8EA6-56A6C97D796F}"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93CEB19-31C4-4AF9-B637-1111731CE5D8}"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07FBC9C-ECE4-4B02-9850-F38C9A9091D8}"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0772B61-7E1C-417A-B66A-7D8D3EC8817D}"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D9A7919-E849-41FB-972B-B46C130BF9F2}"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EF9C148-2BDB-4E28-AAB9-97A8CBF552D6}"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3B8B892-3D26-4DC5-9418-12EFF03B2408}"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4F8B8CC4-2885-42D1-94E6-D9A7A9B6DCE4}"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7E7BFA6-125B-407C-A112-A070D6D543F7}"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037B5B4-B79A-4BCE-8E1F-79E9AE5B370B}"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3F477F5-BA08-4111-AA47-899FFBC3200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89BAD4E-0ADE-4B93-B7F4-6794BC70B4EC}"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BFEA91-504C-453E-8079-90BF77119B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5D61490-5D0F-41D9-A149-253A964DAE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53EE20-5C16-447D-B107-536B0F4FD0E8}"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4DBEDA-315D-468D-90FE-A9CF87B62E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1E8AF8A-5CE1-42C9-A491-396614F81C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A35E8C3-1234-4D14-8341-BF7F147B6FAC}"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E3A8659-1097-4E2F-B721-7F44533A24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842A2DC-94CB-41C6-985E-F121650771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97FB5B-B1DF-4F2A-92BA-6D8DEEFFAD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A3B6B56-09FF-4312-8BAF-A78FD4BB94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70BF012-525F-4AE7-975F-23F456F0AA39}"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5E24BF7-7E22-4303-9591-C5AB3290D6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F05197B-3436-471A-AFFF-EAA2B99713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EEACC28-49E8-465C-8690-3C79FF2C4FE2}"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639C046-EEC7-4256-9EB5-7DFF50B0BDF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EF078F0-1A4E-4DEE-8B69-6F1D0C11D5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D27B23-2146-4F9E-BCA9-76257CC2F62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166709-8D38-4B9D-B4EB-8A44EBD2FA9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FAA916-539F-4D6B-99F0-2B9CABE4741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89DB24B-948D-4851-AE6E-71F7199AE7A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113B40B-9189-4DC2-AC06-4D2453F78C9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3550BDD-CEA8-4AD2-BC07-830EA63B8B9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377401-EE0E-4508-AD1D-1F73DF2D560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7C7613D-AA01-4B28-B13E-DF851A131A5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CB04069-7A2C-44D9-8874-AF93E11760C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48D01DF-24DB-44AF-A06D-3B0CBCC86A4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FEEE4E-AB7C-4D77-A133-D4251663071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E84CFD-9EC5-4AE3-A34C-1CFC9F83316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B4DD9A-DD01-4F49-9B44-4D419DAB201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411A6D9-A0FE-40F1-A674-46B676BFA7D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CC4858D-E7D9-4AD5-89F3-737F25B691F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A254AD0-A956-4FC4-AD45-168CA4E4BE4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013F6C7-B6CB-4A7C-A258-EDE709BFC51A}"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200299A-CAA4-4471-A4EE-80E183B009EE}"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DDFF638-475A-4802-9149-B810ABEDB3E4}"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7FFBD7-9812-4382-AAEA-AE3AB9A0EE9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4A03852-D202-4093-AD18-9E9D51ED2454}"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5B83407-2336-4D7E-8E13-259E7C2543B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BBEA184-7AC8-4FAD-93CA-84B481CCA2A3}"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145C50A-9366-4C3F-8C68-8842E5D95B7B}"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5FE380B-E60F-45E3-914B-79AF85FF20F4}"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83625BE-3BEC-4BE0-8AD7-1A38BB4C1C68}"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EAEEA43-30BB-4DEC-8085-C0DFB1917E4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A94DAE-93A9-4B2F-AD58-ACB614165F8B}"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4F02569-2F92-4BBF-9EB7-121890F8D5FA}"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6D0AEB-A5B6-4217-A46A-4081AF863768}"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63FD84B-0DA3-48E0-8D01-E21F3BB2585F}"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78BCB2F-E4FC-4553-A3F2-1364E6D3574C}"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3C5BD4E-9116-460A-831A-E700357730D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ED5F406-CE22-40CD-BDFC-387FEBE1E665}"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0F22A39-4130-4917-965F-FBF8AC2F4F64}"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D43211F-CBE6-4BE8-99D2-B12D6B2666A5}"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46EA7E-B6AE-48F6-876C-62390B33C3A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A37E2D7-7917-469E-9C05-15EA273E459F}"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68350DA-3B12-4928-BC38-61EC5199B1D8}"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455BED0-F16F-4D75-8307-086EB9E6F423}"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6FB183-59D1-4978-92D8-92C3142483E2}"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66557AC-63C2-44E8-AAB6-98C50AC71459}"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E319C72-073D-4503-ABF5-D110145A6C7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8C44CEF-4248-4F0C-B0A6-437DD975D387}"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559CA31-0EDF-49DC-AD5A-F8864E91CB2E}"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7CD4160-340A-4EBA-9BFB-72A2CC9F63A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811277E-3872-44B9-B2A6-267B8074FC5E}"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288F1FB-1C09-4265-A28C-4BDCDE77E41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1DDC5FD-17C6-4316-9EBE-23F48A520FC9}"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C9D869D-D70A-4C98-AB1D-830F33A19BBF}"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DD265A3-E666-455E-81C0-4D3BD2CD1B8D}"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57033DC-873D-4FA5-93AA-86C904D17012}"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D7F1D7F-2BB2-41E9-BE9E-48D585D0E001}"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6754382-1662-4449-A43F-D334239364B1}"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7CD70D2-666B-42F3-9AB7-8FF9D9896675}"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2F41E3D-512C-492E-8820-5A86492DB1E5}"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2697576-9312-4D4D-BD76-4B22D7219EFE}"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16A098E-6E14-49F3-8AD2-324E76D0EBE0}"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2074F4C-C171-49B0-AD4E-53433F6873BE}"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0EDBFC-8953-4696-978E-68FD60555372}"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8FB5163-D1A5-4FE1-8798-65AC450128F5}"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9722A02-0EA8-4F53-8D3F-1168B8C53685}"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8F81A37-65D6-4914-A917-65294061BBC7}"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40EFC1-3348-4703-952E-46311A15FC77}"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F58CC62-535F-46D3-94F9-560D4E50167A}"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C8B0A266-6CB0-4215-BD3E-DAF75F99F2D3}"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5866359-79C3-4B4A-AF56-0C255FC9512A}"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30D394-856D-4A15-9AB6-4F312939D7D3}"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316C7F-7D25-486F-868A-3580985BB90A}"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69C17F4-8AF5-4618-8412-B15CF8799E1C}"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6CE552-96D7-4675-AD59-1FDE6E328473}"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D82F85-EB26-4D7C-95BD-527B39189002}"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9DE124C-5090-4FD3-BEFC-CEF8671895C9}"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EB59DAE-BC05-4FAB-AA6C-988C181218C1}"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71586C5-C12F-4445-9BA1-66F1FFE81A87}"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A1A8548-04E5-467B-A38B-54FBDDA6671C}"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F74FF8-C89D-40CB-9E34-6CDF5CE82FBD}"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E338724-1150-416D-AA81-15E5264970D4}"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C9B6A3B-6233-40D5-8825-EAE3CE1D1836}"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