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0C5661D-BABB-45EE-8164-D9F5A17A987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0960" cy="346572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30240" y="4406760"/>
            <a:ext cx="512784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3392-112D-412B-BDD3-FC9B36F2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CF26-0C36-4C01-ABC2-83903801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29FA-3192-41BE-BDA5-EB0BDF23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136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04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868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136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04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E58E-4406-46DD-B3DF-F86F5866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B351-4EC9-41CA-B983-62A1034D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8F9A-AEBC-4D34-91CC-5296A7A7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E47-50F5-412D-9874-C7C3CD7B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4BE8-30B6-4EA3-BFC6-C37A859A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1916-981A-4105-BCEA-8256C674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1EE-9236-43FF-98C4-42D6107E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174C-EAB4-4E0D-8899-E7A8A8C4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E9E0-AEAC-4C9D-96D4-144E6124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62904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EB47-20AA-4564-929D-35EADD62F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7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3360" y="2654280"/>
            <a:ext cx="8524800" cy="39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798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tt Kohn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m Epperly and Gary Kumfert</a:t>
            </a:r>
            <a:br>
              <a:rPr sz="24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wrence Livermore National Laborator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3,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7840" y="5892840"/>
            <a:ext cx="2286000" cy="85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873920" y="6022800"/>
            <a:ext cx="673200" cy="650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11430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for High-Performance Scientific Simulation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853920"/>
            <a:ext cx="8076960" cy="152280"/>
            <a:chOff x="533520" y="853920"/>
            <a:chExt cx="8076960" cy="152280"/>
          </a:xfrm>
        </p:grpSpPr>
        <p:sp>
          <p:nvSpPr>
            <p:cNvPr id="57" name=""/>
            <p:cNvSpPr/>
            <p:nvPr/>
          </p:nvSpPr>
          <p:spPr>
            <a:xfrm>
              <a:off x="533520" y="85392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520" y="96804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04720" y="2422440"/>
            <a:ext cx="8076960" cy="152640"/>
            <a:chOff x="504720" y="2422440"/>
            <a:chExt cx="8076960" cy="152640"/>
          </a:xfrm>
        </p:grpSpPr>
        <p:sp>
          <p:nvSpPr>
            <p:cNvPr id="60" name=""/>
            <p:cNvSpPr/>
            <p:nvPr/>
          </p:nvSpPr>
          <p:spPr>
            <a:xfrm>
              <a:off x="504720" y="2422440"/>
              <a:ext cx="8076960" cy="7488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4720" y="253692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437-ECBF-4CF2-9F44-EADCCB6FBFF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680" y="298440"/>
            <a:ext cx="84074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is investigating high-performance component technology for the DO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Component Architecture (CCA) for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workshops and meetings since January, 199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L, LANL, LBNL, LLNL, ORNL, SNL, Indiana, and Uta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z.ca.sandia.gov/~cca-f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 interoperability for high-performance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massively parallel SPMD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industry approaches for the scientif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specifications and reference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technology developed by CCA participa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o develop a joint reference implementation by FY0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0393-6DE7-4A23-99FB-E94CCB49A0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CA is researching a variety of component issues in scientific comput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6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between components via 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andard component repository formats and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tion GU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Language interoperability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component lo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d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arallel data redistribution between SPMD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interface standards (e.g., solvers, meshes, …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icient low-level parallel communication libra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0300-3735-44CB-B88C-EE97F99C0F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2474-E3C3-460A-AB7A-AAB5A3754F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ed by Common Component Architecture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lab interoperability of DOE numerical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 labs use many languages (f77, f90, C, C++, Java, Pyth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focus is on tightly-coupled same-address space c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3800" y="434340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52640" y="56386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2920" y="56386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99640" y="312408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08960" y="434340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7" idx="2"/>
            <a:endCxn id="144" idx="0"/>
          </p:cNvCxnSpPr>
          <p:nvPr/>
        </p:nvCxnSpPr>
        <p:spPr>
          <a:xfrm flipH="1">
            <a:off x="2157120" y="3882960"/>
            <a:ext cx="248832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7" idx="2"/>
            <a:endCxn id="148" idx="0"/>
          </p:cNvCxnSpPr>
          <p:nvPr/>
        </p:nvCxnSpPr>
        <p:spPr>
          <a:xfrm>
            <a:off x="4645080" y="3882960"/>
            <a:ext cx="252000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1" name=""/>
          <p:cNvCxnSpPr>
            <a:stCxn id="144" idx="2"/>
            <a:endCxn id="146" idx="0"/>
          </p:cNvCxnSpPr>
          <p:nvPr/>
        </p:nvCxnSpPr>
        <p:spPr>
          <a:xfrm flipH="1">
            <a:off x="1607760" y="5101920"/>
            <a:ext cx="55008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2" name=""/>
          <p:cNvCxnSpPr>
            <a:stCxn id="144" idx="2"/>
            <a:endCxn id="145" idx="0"/>
          </p:cNvCxnSpPr>
          <p:nvPr/>
        </p:nvCxnSpPr>
        <p:spPr>
          <a:xfrm>
            <a:off x="2157480" y="5101920"/>
            <a:ext cx="254232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10E4-F31A-468D-A30B-3966D4BEB2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2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support for non-object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572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object implementations in non-object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 techniques useful for software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… many scientists are uncomfortable with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ETSc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lement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support is tedious and difficult if done by h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eritance and polymorphism require function lookup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infrastructure must be built into each new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 approach provides “automatic” objec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 compiler automates generation of object “glue”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orphism, multiple inheritance, reference counting, RTTI,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7814-3F81-4798-A876-12EBA3A7B4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are many tradeoffs when choosing a language interoperability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040" y="1486080"/>
            <a:ext cx="872496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generation, wrapper tools (e.g., SWIG), ID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hose the IDL approach to language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any language can call and 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ther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 tools need a common interface description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fficient information for automatic generation of distributed cal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 CORBA, DCOM, ILU, RPC, microkernel 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926240" y="4240080"/>
            <a:ext cx="3420000" cy="2055240"/>
            <a:chOff x="4926240" y="4240080"/>
            <a:chExt cx="3420000" cy="2055240"/>
          </a:xfrm>
        </p:grpSpPr>
        <p:sp>
          <p:nvSpPr>
            <p:cNvPr id="158" name=""/>
            <p:cNvSpPr/>
            <p:nvPr/>
          </p:nvSpPr>
          <p:spPr>
            <a:xfrm>
              <a:off x="6264360" y="4957920"/>
              <a:ext cx="519120" cy="519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26040" y="4773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26240" y="54594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85600" y="424008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57200" y="477360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79720" y="553572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17920" y="595800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48520" y="5029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42120" y="4957920"/>
              <a:ext cx="822240" cy="2156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23200" y="4524480"/>
              <a:ext cx="0" cy="4334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783480" y="4957560"/>
              <a:ext cx="907920" cy="2156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83480" y="5303880"/>
              <a:ext cx="777960" cy="21600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484960" y="5303880"/>
              <a:ext cx="779400" cy="21600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31120" y="5477040"/>
              <a:ext cx="0" cy="47448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87240" y="4280040"/>
            <a:ext cx="3638880" cy="1937160"/>
            <a:chOff x="687240" y="4280040"/>
            <a:chExt cx="3638880" cy="1937160"/>
          </a:xfrm>
        </p:grpSpPr>
        <p:sp>
          <p:nvSpPr>
            <p:cNvPr id="173" name=""/>
            <p:cNvSpPr/>
            <p:nvPr/>
          </p:nvSpPr>
          <p:spPr>
            <a:xfrm>
              <a:off x="3537360" y="4533480"/>
              <a:ext cx="788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cc"/>
                  </a:solidFill>
                  <a:latin typeface="Arial"/>
                </a:rPr>
                <a:t>J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b61"/>
                  </a:solidFill>
                  <a:latin typeface="Arial"/>
                </a:rPr>
                <a:t>N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SWI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5480" y="4660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7240" y="53463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82880" y="42800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5880" y="48128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61000" y="533052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82520" y="587988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"/>
            <p:cNvCxnSpPr>
              <a:stCxn id="175" idx="0"/>
              <a:endCxn id="174" idx="2"/>
            </p:cNvCxnSpPr>
            <p:nvPr/>
          </p:nvCxnSpPr>
          <p:spPr>
            <a:xfrm flipV="1">
              <a:off x="969480" y="4996440"/>
              <a:ext cx="109800" cy="34956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75" idx="2"/>
              <a:endCxn id="179" idx="0"/>
            </p:cNvCxnSpPr>
            <p:nvPr/>
          </p:nvCxnSpPr>
          <p:spPr>
            <a:xfrm>
              <a:off x="969840" y="5682960"/>
              <a:ext cx="1329120" cy="197280"/>
            </a:xfrm>
            <a:prstGeom prst="straightConnector1">
              <a:avLst/>
            </a:prstGeom>
            <a:ln w="28440">
              <a:solidFill>
                <a:srgbClr val="0066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2" name=""/>
            <p:cNvCxnSpPr>
              <a:stCxn id="175" idx="3"/>
              <a:endCxn id="178" idx="1"/>
            </p:cNvCxnSpPr>
            <p:nvPr/>
          </p:nvCxnSpPr>
          <p:spPr>
            <a:xfrm flipV="1">
              <a:off x="1253520" y="5498280"/>
              <a:ext cx="1705320" cy="1584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headEnd len="med" type="triangle" w="med"/>
            </a:ln>
          </p:spPr>
        </p:cxnSp>
        <p:cxnSp>
          <p:nvCxnSpPr>
            <p:cNvPr id="183" name=""/>
            <p:cNvCxnSpPr>
              <a:stCxn id="174" idx="0"/>
              <a:endCxn id="176" idx="1"/>
            </p:cNvCxnSpPr>
            <p:nvPr/>
          </p:nvCxnSpPr>
          <p:spPr>
            <a:xfrm flipV="1">
              <a:off x="1079280" y="4447440"/>
              <a:ext cx="902160" cy="21312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4" name=""/>
            <p:cNvCxnSpPr>
              <a:stCxn id="177" idx="0"/>
              <a:endCxn id="176" idx="3"/>
            </p:cNvCxnSpPr>
            <p:nvPr/>
          </p:nvCxnSpPr>
          <p:spPr>
            <a:xfrm flipH="1" flipV="1">
              <a:off x="2458080" y="4447440"/>
              <a:ext cx="905400" cy="36504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5" name=""/>
            <p:cNvCxnSpPr>
              <a:stCxn id="179" idx="0"/>
              <a:endCxn id="174" idx="3"/>
            </p:cNvCxnSpPr>
            <p:nvPr/>
          </p:nvCxnSpPr>
          <p:spPr>
            <a:xfrm flipH="1" flipV="1">
              <a:off x="1243800" y="4827960"/>
              <a:ext cx="1054440" cy="1051560"/>
            </a:xfrm>
            <a:prstGeom prst="straightConnector1">
              <a:avLst/>
            </a:prstGeom>
            <a:ln w="28440">
              <a:solidFill>
                <a:srgbClr val="0066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6" name=""/>
            <p:cNvCxnSpPr>
              <a:stCxn id="178" idx="1"/>
              <a:endCxn id="174" idx="3"/>
            </p:cNvCxnSpPr>
            <p:nvPr/>
          </p:nvCxnSpPr>
          <p:spPr>
            <a:xfrm flipH="1" flipV="1">
              <a:off x="1243800" y="4828320"/>
              <a:ext cx="1714680" cy="6703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>
              <a:stCxn id="175" idx="0"/>
              <a:endCxn id="176" idx="2"/>
            </p:cNvCxnSpPr>
            <p:nvPr/>
          </p:nvCxnSpPr>
          <p:spPr>
            <a:xfrm flipV="1">
              <a:off x="969840" y="4615920"/>
              <a:ext cx="1251360" cy="73008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309F-8C50-4D67-AE72-03FA6E4E88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DL for scientific computing requires capabilities not present in industry ID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y standard IDLs: CORBA, COM, RPC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red capabilities for a scientific computing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s for parallel seman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se dynamic multidimensional arrays and complex nu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ings for f77/f90 and “special” languages (e.g., Yoric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nd easy-to-modify IDL for research purpo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 inheritance model (Java-like interfaces and class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erformance for same address-space method invo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DB13-9453-432F-9B81-58551A1B4D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1280" y="298440"/>
            <a:ext cx="82551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provides language interoperability for scientific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22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s a “scientific” interface definition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modified industry IDL technology for the scientif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describes calling interfaces (e.g., CCA specific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tools automatically generate code to “glue language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00" y="3505320"/>
            <a:ext cx="5301360" cy="2527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ESI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axp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, in double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do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35040" y="4419720"/>
            <a:ext cx="788760" cy="70380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IDL</a:t>
            </a:r>
            <a:br>
              <a:rPr sz="2000"/>
            </a:b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4800600"/>
            <a:ext cx="3812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642080" y="3373560"/>
            <a:ext cx="1043280" cy="2826000"/>
            <a:chOff x="7642080" y="3373560"/>
            <a:chExt cx="1043280" cy="2826000"/>
          </a:xfrm>
        </p:grpSpPr>
        <p:sp>
          <p:nvSpPr>
            <p:cNvPr id="196" name=""/>
            <p:cNvSpPr/>
            <p:nvPr/>
          </p:nvSpPr>
          <p:spPr>
            <a:xfrm>
              <a:off x="7889040" y="337356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81920" y="3979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32880" y="4586400"/>
              <a:ext cx="66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42080" y="519264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68686"/>
                  </a:solidFill>
                  <a:latin typeface="Arial"/>
                </a:rPr>
                <a:t>Pyth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68240" y="580068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68686"/>
                  </a:solidFill>
                  <a:latin typeface="Arial"/>
                </a:rPr>
                <a:t>f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858000" y="4800600"/>
            <a:ext cx="9144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858000" y="3657240"/>
            <a:ext cx="990720" cy="114300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858000" y="4267080"/>
            <a:ext cx="990720" cy="533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0" y="4800600"/>
            <a:ext cx="762120" cy="533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0" y="4800600"/>
            <a:ext cx="914400" cy="12193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80920" y="5562720"/>
            <a:ext cx="275940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library writer develop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6880" y="3124080"/>
            <a:ext cx="174600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user runs thi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60040" y="6248520"/>
            <a:ext cx="168804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… </a:t>
            </a: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and get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400440" y="3581280"/>
            <a:ext cx="228600" cy="68580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934320" y="3809880"/>
            <a:ext cx="1143000" cy="236232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A828-2352-4539-ABC8-815815CE46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4408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incorporates ideas from Java and CORBA to describe scientific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1600200"/>
            <a:ext cx="8686800" cy="475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.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ESI.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i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64480" y="2057400"/>
            <a:ext cx="1707840" cy="161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um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062-3F1D-4B3B-ABD4-01E925BC4C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298440"/>
            <a:ext cx="86868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s call automatically generated interface code completely unaware of SIDL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6280" y="1839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93600" y="2286000"/>
            <a:ext cx="45133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b,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smg_sol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b = hypre_vector_NewVector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x = hypre_vector_NewVector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A = hypre_matrix_NewMatrix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smg_solver = hypre_smg_solver_new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SetMaxIter(smg_solver, 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Solve(smg_solver, A, b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Finalize(smg_solv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400" y="2286000"/>
            <a:ext cx="43185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vector b,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matrix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smg_solver smg_solv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b = hypre::vector::NewVector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x = hypre::vector::NewVector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A = hypre::matrix::NewMatrix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 = hypre::smg_solver::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SetMaxIter(1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Solve(A, b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Finaliz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22860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22720" y="167652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C++ Tes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11960" y="167652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b61"/>
                </a:solidFill>
                <a:uFillTx/>
                <a:latin typeface="Arial"/>
              </a:rPr>
              <a:t>Fortran 77 Tes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A8AE-79BD-45A7-AAA1-85883F850A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ep thought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113800"/>
            <a:ext cx="6934320" cy="1008720"/>
          </a:xfrm>
          <a:prstGeom prst="rect">
            <a:avLst/>
          </a:prstGeom>
          <a:noFill/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Goal: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 Provide an overview of the approach, techniques,  and tools we are exploring in adopting software component technology for scientific comp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F32C-E7EB-4F91-BC60-CE353972E8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version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171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version management scheme for SIDL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ymbols are assigned a fixed version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er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word requests specified version (or late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ultiple versions of specs (e.g., ESI 0.5, ESI 0.5.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1440" y="3429000"/>
            <a:ext cx="6490080" cy="283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version ESI 0.5.1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// access ESI spec v0.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version HYPRE 0.7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// define HYPRE spec v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HYPR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define v0.7 of HYPRE.Vector using v0.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of the ESI.Vecto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Vector extends ESI.Vecto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F778-2329-4E09-88B0-28CFF0FFAC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support in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mpil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, f77, C++ mostly finished using old SIDL gramm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500 test cases probe imple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am for exploratory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ly migrating system to use new gramm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, Python, and Yorick support n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thon and Yorick are scripting languages (Yorick from LLN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e to begin development in October timefr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quick” because of C interface support in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90 and MATLAB will (hopefully) begin early next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02B3-F04B-46AD-85F3-5B8D05AEA8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4200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collaborating with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explore SIDL technology in a scientific libr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49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aborators: Andy Cleary, Jeff Painter, Cal Ribbe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nterface description file generated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30 interfaces and classe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s to generate glue code for object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 of SIDL use in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support for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tran capabilities through SIDL in upcoming 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o integrate existing C, Fortran, and C++ in one libr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is a useful language for discussing software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bet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ign based on SIDL OO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verhead in same-address space too small to meas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356F-132B-45E7-A63B-DBC2C5B819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8DA8-5B6E-4E15-B57B-E45B13EF35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7080" y="298440"/>
            <a:ext cx="88646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developing a web-based architecture to simplify access by scientists and tool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4647960"/>
            <a:ext cx="899172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sts and library developers must ha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s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ss to our technology; otherwise, they simply will not use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web-based deployment lowers the “threshold of pain” to adopting component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65720" y="1676520"/>
            <a:ext cx="7616160" cy="2927880"/>
            <a:chOff x="765720" y="1676520"/>
            <a:chExt cx="7616160" cy="2927880"/>
          </a:xfrm>
        </p:grpSpPr>
        <p:grpSp>
          <p:nvGrpSpPr>
            <p:cNvPr id="233" name=""/>
            <p:cNvGrpSpPr/>
            <p:nvPr/>
          </p:nvGrpSpPr>
          <p:grpSpPr>
            <a:xfrm>
              <a:off x="765720" y="1676520"/>
              <a:ext cx="1002240" cy="1023120"/>
              <a:chOff x="765720" y="1676520"/>
              <a:chExt cx="1002240" cy="10231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1114560" y="1676520"/>
                <a:ext cx="304560" cy="609480"/>
                <a:chOff x="1114560" y="1676520"/>
                <a:chExt cx="304560" cy="6094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152360" y="1676520"/>
                  <a:ext cx="228240" cy="228600"/>
                </a:xfrm>
                <a:prstGeom prst="ellipse">
                  <a:avLst/>
                </a:prstGeom>
                <a:noFill/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66480" y="1905120"/>
                  <a:ext cx="0" cy="22860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114560" y="1981440"/>
                  <a:ext cx="304560" cy="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1114560" y="2133720"/>
                  <a:ext cx="151920" cy="15228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266480" y="2133720"/>
                  <a:ext cx="152280" cy="15228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765720" y="2362320"/>
                <a:ext cx="1002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0080"/>
                    </a:solidFill>
                    <a:latin typeface="Arial"/>
                  </a:rPr>
                  <a:t>scienti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991800" y="3156120"/>
              <a:ext cx="551160" cy="1006920"/>
              <a:chOff x="991800" y="3156120"/>
              <a:chExt cx="551160" cy="1006920"/>
            </a:xfrm>
          </p:grpSpPr>
          <p:sp>
            <p:nvSpPr>
              <p:cNvPr id="242" name=""/>
              <p:cNvSpPr/>
              <p:nvPr/>
            </p:nvSpPr>
            <p:spPr>
              <a:xfrm>
                <a:off x="1038240" y="3156120"/>
                <a:ext cx="457200" cy="6091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14560" y="3232080"/>
                <a:ext cx="75960" cy="151920"/>
              </a:xfrm>
              <a:prstGeom prst="rect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90520" y="3536640"/>
                <a:ext cx="152640" cy="75960"/>
              </a:xfrm>
              <a:prstGeom prst="rect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90520" y="3384360"/>
                <a:ext cx="76320" cy="15192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91800" y="3825720"/>
                <a:ext cx="55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c6d9c"/>
                    </a:solidFill>
                    <a:latin typeface="Arial"/>
                  </a:rPr>
                  <a:t>too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1752480" y="2133720"/>
              <a:ext cx="83844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1676520" y="3048120"/>
              <a:ext cx="9144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669760" y="2590920"/>
              <a:ext cx="1239840" cy="565920"/>
              <a:chOff x="2669760" y="2590920"/>
              <a:chExt cx="1239840" cy="565920"/>
            </a:xfrm>
          </p:grpSpPr>
          <p:sp>
            <p:nvSpPr>
              <p:cNvPr id="250" name=""/>
              <p:cNvSpPr/>
              <p:nvPr/>
            </p:nvSpPr>
            <p:spPr>
              <a:xfrm>
                <a:off x="2669760" y="28195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33"/>
                    </a:solidFill>
                    <a:latin typeface="Arial"/>
                  </a:rPr>
                  <a:t>web 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1" name="asf_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2819160" y="2590920"/>
                <a:ext cx="990720" cy="327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2" name=""/>
            <p:cNvSpPr/>
            <p:nvPr/>
          </p:nvSpPr>
          <p:spPr>
            <a:xfrm>
              <a:off x="3962520" y="2819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105520" y="2362320"/>
              <a:ext cx="1143000" cy="838080"/>
              <a:chOff x="5105520" y="2362320"/>
              <a:chExt cx="1143000" cy="838080"/>
            </a:xfrm>
          </p:grpSpPr>
          <p:sp>
            <p:nvSpPr>
              <p:cNvPr id="254" name=""/>
              <p:cNvSpPr/>
              <p:nvPr/>
            </p:nvSpPr>
            <p:spPr>
              <a:xfrm>
                <a:off x="5105520" y="2362320"/>
                <a:ext cx="1143000" cy="838080"/>
              </a:xfrm>
              <a:prstGeom prst="flowChartMultidocument">
                <a:avLst/>
              </a:prstGeom>
              <a:noFill/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107680" y="2514600"/>
                <a:ext cx="935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SIDL too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servl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JS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781680" y="3276720"/>
              <a:ext cx="1600200" cy="1327680"/>
              <a:chOff x="6781680" y="3276720"/>
              <a:chExt cx="1600200" cy="1327680"/>
            </a:xfrm>
          </p:grpSpPr>
          <p:sp>
            <p:nvSpPr>
              <p:cNvPr id="257" name=""/>
              <p:cNvSpPr/>
              <p:nvPr/>
            </p:nvSpPr>
            <p:spPr>
              <a:xfrm>
                <a:off x="6781680" y="4267080"/>
                <a:ext cx="160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6b61"/>
                    </a:solidFill>
                    <a:latin typeface="Arial"/>
                  </a:rPr>
                  <a:t>SQL datab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48440" y="3276720"/>
                <a:ext cx="1067040" cy="990360"/>
              </a:xfrm>
              <a:prstGeom prst="can">
                <a:avLst>
                  <a:gd name="adj" fmla="val 25000"/>
                </a:avLst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2060640" y="327672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82880" y="1676520"/>
              <a:ext cx="766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web</a:t>
              </a:r>
              <a:br>
                <a:rPr sz="1600"/>
              </a:b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p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8520" y="3124080"/>
              <a:ext cx="68580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babel_dropshadow" descr=""/>
            <p:cNvPicPr/>
            <p:nvPr/>
          </p:nvPicPr>
          <p:blipFill>
            <a:blip r:embed="rId2"/>
            <a:stretch/>
          </p:blipFill>
          <p:spPr>
            <a:xfrm>
              <a:off x="6934320" y="1905120"/>
              <a:ext cx="129528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flipV="1">
              <a:off x="6324480" y="2133720"/>
              <a:ext cx="5335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77C4-2BCA-4BF6-BE86-83DEA24F76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 web-based repository for component software and type descri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53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exandria repository support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type descriptions for libraries and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and component implemen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face to the Babel language interoperability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209680" y="2971800"/>
          <a:ext cx="5410440" cy="37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5410440" cy="37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2314-6350-4969-8736-DE4E9527DE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5680" y="298440"/>
            <a:ext cx="84074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arser converts SIDL to XML that is stored in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positor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s used to generate XML interface information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type description used to generate glue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25800" y="2133720"/>
            <a:ext cx="6741360" cy="1404000"/>
            <a:chOff x="1225800" y="2133720"/>
            <a:chExt cx="6741360" cy="1404000"/>
          </a:xfrm>
        </p:grpSpPr>
        <p:sp>
          <p:nvSpPr>
            <p:cNvPr id="271" name=""/>
            <p:cNvSpPr/>
            <p:nvPr/>
          </p:nvSpPr>
          <p:spPr>
            <a:xfrm>
              <a:off x="3737520" y="2360520"/>
              <a:ext cx="959400" cy="39888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25800" y="242244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rl://interface.s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5334120" y="2133720"/>
              <a:ext cx="2633040" cy="914400"/>
              <a:chOff x="5334120" y="2133720"/>
              <a:chExt cx="2633040" cy="914400"/>
            </a:xfrm>
          </p:grpSpPr>
          <p:sp>
            <p:nvSpPr>
              <p:cNvPr id="274" name=""/>
              <p:cNvSpPr/>
              <p:nvPr/>
            </p:nvSpPr>
            <p:spPr>
              <a:xfrm>
                <a:off x="5334120" y="2133720"/>
                <a:ext cx="304920" cy="38088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34120" y="2666880"/>
                <a:ext cx="304920" cy="38124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945400" y="2408400"/>
                <a:ext cx="20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b61"/>
                    </a:solidFill>
                    <a:latin typeface="Arial"/>
                  </a:rPr>
                  <a:t>type repositori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715000" y="2133720"/>
                <a:ext cx="152640" cy="9144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124440" y="2590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4876920" y="2361960"/>
              <a:ext cx="3808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76920" y="2666880"/>
              <a:ext cx="38088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83200" y="320040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rl://interface.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91120" y="2895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556000" y="4876920"/>
            <a:ext cx="533160" cy="6094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6920" y="43434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b61"/>
                </a:solidFill>
                <a:latin typeface="Arial"/>
              </a:rPr>
              <a:t>type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71520" y="5257800"/>
            <a:ext cx="2020320" cy="398880"/>
          </a:xfrm>
          <a:prstGeom prst="rect">
            <a:avLst/>
          </a:pr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cod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518148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54480" y="48769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554160" y="4572000"/>
            <a:ext cx="613440" cy="1892160"/>
            <a:chOff x="6554160" y="4572000"/>
            <a:chExt cx="613440" cy="1892160"/>
          </a:xfrm>
        </p:grpSpPr>
        <p:sp>
          <p:nvSpPr>
            <p:cNvPr id="289" name=""/>
            <p:cNvSpPr/>
            <p:nvPr/>
          </p:nvSpPr>
          <p:spPr>
            <a:xfrm>
              <a:off x="6606000" y="507996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54160" y="558792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88440" y="4572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66760" y="609588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V="1">
            <a:off x="6095880" y="480024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095880" y="52574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5880" y="548640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5880" y="54864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56000" y="5791320"/>
            <a:ext cx="533160" cy="6094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276720" y="556272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4480" y="57913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8280" y="609588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machine</a:t>
            </a:r>
            <a:br>
              <a:rPr sz="1800"/>
            </a:b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9277-353E-4E97-813A-58A0C0A72F2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e XML file f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.Ve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3200" y="1752480"/>
            <a:ext cx="8227440" cy="447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?xml version="1.0" encoding="UTF-8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!DOCTYPE Symbol PUBLIC “-//CCA//SIDL Symbol DTD v1.0//EN” “SIDL.dtd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Vecto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adata dat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0000816 08:47:22 PD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adataEntry key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urce-ur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alu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le:/home/skohn/hypre.sid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adata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Comment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Interfa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Exten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Obje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Exten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AllParentInterfac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IDL.Interfac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Obje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AllParentInterfac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ho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hod communicat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rma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copy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definit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xpy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hod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hodsBlock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Interface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ymbo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5E00-62E4-4F2D-BAC5-E4DDF8E989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19E5-4CD4-450E-9130-F65612A627D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llel redistribution of complex data structures between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1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 data redistribution for non-local conn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onnect parallel application to visualization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utomatically redistribute complex data struc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st support redistribution of arbitrary data struc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 - modify SIDL and special interface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666880" y="3200400"/>
            <a:ext cx="3810240" cy="2438280"/>
            <a:chOff x="2666880" y="3200400"/>
            <a:chExt cx="3810240" cy="2438280"/>
          </a:xfrm>
        </p:grpSpPr>
        <p:sp>
          <p:nvSpPr>
            <p:cNvPr id="308" name=""/>
            <p:cNvSpPr/>
            <p:nvPr/>
          </p:nvSpPr>
          <p:spPr>
            <a:xfrm>
              <a:off x="2666880" y="3200400"/>
              <a:ext cx="91440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2819160" y="3352680"/>
              <a:ext cx="609480" cy="457200"/>
              <a:chOff x="2819160" y="3352680"/>
              <a:chExt cx="609480" cy="457200"/>
            </a:xfrm>
          </p:grpSpPr>
          <p:sp>
            <p:nvSpPr>
              <p:cNvPr id="310" name=""/>
              <p:cNvSpPr/>
              <p:nvPr/>
            </p:nvSpPr>
            <p:spPr>
              <a:xfrm flipH="1">
                <a:off x="2895480" y="3352680"/>
                <a:ext cx="228240" cy="228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95480" y="3581280"/>
                <a:ext cx="151920" cy="763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124080" y="3352680"/>
                <a:ext cx="15192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3047760" y="3504960"/>
                <a:ext cx="228240" cy="1526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2971800" y="3657600"/>
                <a:ext cx="75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2819160" y="3581280"/>
                <a:ext cx="75960" cy="228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19520" y="380988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047760" y="365760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276360" y="3504960"/>
                <a:ext cx="152280" cy="763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3200400" y="3581280"/>
                <a:ext cx="22824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2666880" y="403848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2933640" y="4228920"/>
              <a:ext cx="380880" cy="381240"/>
              <a:chOff x="2933640" y="4228920"/>
              <a:chExt cx="380880" cy="381240"/>
            </a:xfrm>
          </p:grpSpPr>
          <p:sp>
            <p:nvSpPr>
              <p:cNvPr id="322" name=""/>
              <p:cNvSpPr/>
              <p:nvPr/>
            </p:nvSpPr>
            <p:spPr>
              <a:xfrm flipH="1">
                <a:off x="3161880" y="4305240"/>
                <a:ext cx="15228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85920" y="438156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33640" y="4381560"/>
                <a:ext cx="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2933640" y="4533840"/>
                <a:ext cx="22860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933640" y="438156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085920" y="4228920"/>
                <a:ext cx="76320" cy="15264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62240" y="4228920"/>
                <a:ext cx="15228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2666880" y="487656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2781360" y="4952520"/>
              <a:ext cx="685800" cy="609480"/>
              <a:chOff x="2781360" y="4952520"/>
              <a:chExt cx="685800" cy="609480"/>
            </a:xfrm>
          </p:grpSpPr>
          <p:sp>
            <p:nvSpPr>
              <p:cNvPr id="331" name=""/>
              <p:cNvSpPr/>
              <p:nvPr/>
            </p:nvSpPr>
            <p:spPr>
              <a:xfrm flipV="1">
                <a:off x="2781360" y="5333760"/>
                <a:ext cx="22860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3009960" y="5105160"/>
                <a:ext cx="152280" cy="22824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3162240" y="4952520"/>
                <a:ext cx="22860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781360" y="540972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09960" y="5333760"/>
                <a:ext cx="15228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2857680" y="5409360"/>
                <a:ext cx="30456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3162240" y="5181120"/>
                <a:ext cx="152640" cy="22824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62240" y="5105160"/>
                <a:ext cx="15264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390840" y="495288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3314520" y="5105160"/>
                <a:ext cx="15228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5562720" y="445752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5676840" y="4533480"/>
              <a:ext cx="685800" cy="609840"/>
              <a:chOff x="5676840" y="4533480"/>
              <a:chExt cx="685800" cy="609840"/>
            </a:xfrm>
          </p:grpSpPr>
          <p:sp>
            <p:nvSpPr>
              <p:cNvPr id="343" name=""/>
              <p:cNvSpPr/>
              <p:nvPr/>
            </p:nvSpPr>
            <p:spPr>
              <a:xfrm>
                <a:off x="5676840" y="476244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6057360" y="4533840"/>
                <a:ext cx="228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5905080" y="4686120"/>
                <a:ext cx="15228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829120" y="476244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5676840" y="4914720"/>
                <a:ext cx="22860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676840" y="476244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5676840" y="4914720"/>
                <a:ext cx="22860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905440" y="4685760"/>
                <a:ext cx="152280" cy="228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6057720" y="4533480"/>
                <a:ext cx="22860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676840" y="499104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05440" y="4914720"/>
                <a:ext cx="15228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5753160" y="4990680"/>
                <a:ext cx="30456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6057720" y="4762080"/>
                <a:ext cx="152640" cy="228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57720" y="4686120"/>
                <a:ext cx="15264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286320" y="453384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6210000" y="4686120"/>
                <a:ext cx="15228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76840" y="4762440"/>
                <a:ext cx="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715000" y="3695760"/>
              <a:ext cx="609480" cy="609120"/>
              <a:chOff x="5715000" y="3695760"/>
              <a:chExt cx="609480" cy="609120"/>
            </a:xfrm>
          </p:grpSpPr>
          <p:sp>
            <p:nvSpPr>
              <p:cNvPr id="361" name=""/>
              <p:cNvSpPr/>
              <p:nvPr/>
            </p:nvSpPr>
            <p:spPr>
              <a:xfrm flipH="1">
                <a:off x="5790960" y="3695760"/>
                <a:ext cx="228600" cy="2282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791320" y="392400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019920" y="3695760"/>
                <a:ext cx="15228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943240" y="3848040"/>
                <a:ext cx="228600" cy="1519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5867280" y="4000320"/>
                <a:ext cx="76320" cy="1519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5715000" y="3924000"/>
                <a:ext cx="76320" cy="2282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715000" y="415260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3600" y="400032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172200" y="3848040"/>
                <a:ext cx="152280" cy="75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095520" y="3924000"/>
                <a:ext cx="228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5943240" y="4076640"/>
                <a:ext cx="152280" cy="22824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67280" y="415260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715000" y="415260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5867280" y="4000320"/>
                <a:ext cx="76320" cy="1519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3600" y="4000320"/>
                <a:ext cx="152280" cy="7596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5562720" y="361944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57600" y="3581280"/>
              <a:ext cx="18288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657600" y="4114800"/>
              <a:ext cx="1828800" cy="304560"/>
            </a:xfrm>
            <a:prstGeom prst="line">
              <a:avLst/>
            </a:prstGeom>
            <a:ln w="19080">
              <a:solidFill>
                <a:srgbClr val="0c6d9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57600" y="4419360"/>
              <a:ext cx="1828800" cy="304920"/>
            </a:xfrm>
            <a:prstGeom prst="line">
              <a:avLst/>
            </a:prstGeom>
            <a:ln w="19080">
              <a:solidFill>
                <a:srgbClr val="0c6d9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657600" y="4876200"/>
              <a:ext cx="1828800" cy="381240"/>
            </a:xfrm>
            <a:prstGeom prst="line">
              <a:avLst/>
            </a:prstGeom>
            <a:ln w="19080">
              <a:solidFill>
                <a:srgbClr val="00c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C6DA-2E63-4339-AD77-8393DDB50E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erical simulation software is becoming increasingly complex and interdisciplin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sts are asked to develop 3d, massively parallel, high-fidelity, full-physics simulations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d do it quick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3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requires the integration of software libraries developed by other te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resources are limited and expertise may not ex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f local control over software development dec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interoperability issues (f77, C, C++, Python, Java, f9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3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s for small codes do not scale to 500K l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30EB-2233-405D-BA7F-E47FF89D0E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31280" y="298440"/>
            <a:ext cx="82551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llel components will require special additions to SIDL interface descri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64880" y="1485720"/>
            <a:ext cx="8978760" cy="201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RMI semantics for parallel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for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also need a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co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for pass-by-value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ever, no data distribution directives - must be done dynamical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63640" y="3429000"/>
            <a:ext cx="5514840" cy="2228400"/>
          </a:xfrm>
          <a:prstGeom prst="rect">
            <a:avLst/>
          </a:prstGeom>
          <a:noFill/>
          <a:ln w="1908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package ESI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erface Vecto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double dot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py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in Vector 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 getGlobalSiz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 getLocalSize() </a:t>
            </a:r>
            <a:r>
              <a:rPr b="1" lang="en-US" sz="2000" spc="-1" strike="noStrike">
                <a:solidFill>
                  <a:srgbClr val="ff0033"/>
                </a:solidFill>
                <a:latin typeface="Courier New"/>
              </a:rPr>
              <a:t>local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F387-DD13-4A68-89EF-657D0D70D3B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redistribution of arbitrary data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k the object to do it for you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496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regular data too complex to represent in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approac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implement one of a set of redistribution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queries object at run-time for supported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45880" y="3200400"/>
            <a:ext cx="7796520" cy="2284200"/>
            <a:chOff x="245880" y="3200400"/>
            <a:chExt cx="7796520" cy="2284200"/>
          </a:xfrm>
        </p:grpSpPr>
        <p:sp>
          <p:nvSpPr>
            <p:cNvPr id="387" name=""/>
            <p:cNvSpPr/>
            <p:nvPr/>
          </p:nvSpPr>
          <p:spPr>
            <a:xfrm>
              <a:off x="245880" y="3200400"/>
              <a:ext cx="5057640" cy="2284200"/>
            </a:xfrm>
            <a:prstGeom prst="rect">
              <a:avLst/>
            </a:prstGeom>
            <a:noFill/>
            <a:ln w="1908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interface ComplexDistributed 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void serialize(in Array&lt;Stream&gt; s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void deserialize(in Array&lt;Stream&gt; s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interface ArrayDistributed 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// use existing array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// from PAWS or CUMULV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10080" y="335304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41200" y="3429000"/>
              <a:ext cx="24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two streams on 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three streams on M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5563440" y="4191120"/>
            <a:ext cx="3201120" cy="2532600"/>
            <a:chOff x="5563440" y="4191120"/>
            <a:chExt cx="3201120" cy="2532600"/>
          </a:xfrm>
        </p:grpSpPr>
        <p:grpSp>
          <p:nvGrpSpPr>
            <p:cNvPr id="391" name=""/>
            <p:cNvGrpSpPr/>
            <p:nvPr/>
          </p:nvGrpSpPr>
          <p:grpSpPr>
            <a:xfrm>
              <a:off x="8231040" y="4572000"/>
              <a:ext cx="532800" cy="1295280"/>
              <a:chOff x="8231040" y="4572000"/>
              <a:chExt cx="532800" cy="1295280"/>
            </a:xfrm>
          </p:grpSpPr>
          <p:sp>
            <p:nvSpPr>
              <p:cNvPr id="392" name=""/>
              <p:cNvSpPr/>
              <p:nvPr/>
            </p:nvSpPr>
            <p:spPr>
              <a:xfrm>
                <a:off x="8231040" y="5333760"/>
                <a:ext cx="532800" cy="533520"/>
              </a:xfrm>
              <a:prstGeom prst="rect">
                <a:avLst/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231040" y="4572000"/>
                <a:ext cx="532800" cy="533160"/>
              </a:xfrm>
              <a:prstGeom prst="rect">
                <a:avLst/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5563800" y="4191120"/>
              <a:ext cx="533160" cy="2057400"/>
              <a:chOff x="5563800" y="4191120"/>
              <a:chExt cx="533160" cy="2057400"/>
            </a:xfrm>
          </p:grpSpPr>
          <p:sp>
            <p:nvSpPr>
              <p:cNvPr id="395" name=""/>
              <p:cNvSpPr/>
              <p:nvPr/>
            </p:nvSpPr>
            <p:spPr>
              <a:xfrm>
                <a:off x="5563800" y="4191120"/>
                <a:ext cx="533160" cy="5335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563800" y="4953240"/>
                <a:ext cx="533160" cy="53316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563800" y="5715000"/>
                <a:ext cx="533160" cy="5335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5563440" y="63248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07360" y="4648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40480" y="4267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40480" y="5029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40480" y="579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07360" y="5410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230320" y="63248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71840" y="4496040"/>
              <a:ext cx="1904760" cy="22860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171840" y="4876560"/>
              <a:ext cx="1904760" cy="30492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171840" y="5029200"/>
              <a:ext cx="1904760" cy="91440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71840" y="4496040"/>
              <a:ext cx="1904760" cy="91440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171840" y="5181840"/>
              <a:ext cx="1904760" cy="38088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171840" y="5714640"/>
              <a:ext cx="1904760" cy="22860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02A4-E72A-4E5A-9A9E-98B91EBF62E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component technology be part of the future of scientific comput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l, maybe - or maybe 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echnology does offer new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s to manage large-scale application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interoperability and easier plug-and-pl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technology, not re-invent the whe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s to interoperate with industry software (e.g., SOA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capabilities come at a pr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s scientists to using component technology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p learning curve (needs to become part of cult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paradigm for developing scientific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888-3C63-4156-A5F4-4D9A5E02B4D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performed under the auspices of the U.S. Depart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nergy by University of California Lawrence Livermore National Laboratory under Contract W-7405-Eng-4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 UCRL-VG-140549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262B-1759-4CCA-97D0-5C6473E18F2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the barriers to software re-use, interoperability, and integr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50104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ical barri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atible programming languages (f90 calling C++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atibilities in C and C++ header files (poor physical desig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ing low-level run-time support (e.g., reference counti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logical barri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(“how do I know you know what you’re doing?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could re-write it in less time than it would take to learn it…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understanding barriers (the interesting one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interactions of the math and physics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software that reflects that understa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where we gain insights and make scientific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5E2-4733-48CF-93E0-44F5E5669C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ies address issues of software complexity and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572680" cy="24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y created component technology to addres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erability problems due to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ity of large applications with third-party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l evolution of large legacy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3886200"/>
            <a:ext cx="6858000" cy="1008720"/>
          </a:xfrm>
          <a:prstGeom prst="rect">
            <a:avLst/>
          </a:prstGeom>
          <a:noFill/>
          <a:ln w="1908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Observation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: The laboratory must address similar problems but in a different applications space (parallel high-performance scientific simulation, not busines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C054-1F32-467C-B931-A8B4BF0795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industry solutions will not work in a scientific computing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57268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competing industry component appro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 JavaBeans and Enterprise JavaBe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G 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s for high-performance scientific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address issues of massively parallel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focuses on abstractions for business (not scientific)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unavailable on our parallel research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support for Fortran 77 and Fortran 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we can leverage techniques and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65A9-4FEC-4C54-BC52-3DFAF8487A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extends OO with interoperability and common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318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with object-oriented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language interoper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object calling interfaces independent of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“glue” software to support cross-language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common behavior, packaging, and descri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mponents must support some common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tools (e.g., repositories, builders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echnology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 design, scripting, or frame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d programming (e.g., modul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lution for all of your problems (just some of the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594A-7DC9-4954-9643-0AB4FA00D4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approaches help to manage application software complex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2680" y="155268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lithic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37120" y="155088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-block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079960" y="2227320"/>
            <a:ext cx="3752640" cy="2194920"/>
            <a:chOff x="5079960" y="2227320"/>
            <a:chExt cx="3752640" cy="2194920"/>
          </a:xfrm>
        </p:grpSpPr>
        <p:grpSp>
          <p:nvGrpSpPr>
            <p:cNvPr id="80" name=""/>
            <p:cNvGrpSpPr/>
            <p:nvPr/>
          </p:nvGrpSpPr>
          <p:grpSpPr>
            <a:xfrm>
              <a:off x="7318440" y="3512880"/>
              <a:ext cx="1514160" cy="909360"/>
              <a:chOff x="7318440" y="3512880"/>
              <a:chExt cx="1514160" cy="909360"/>
            </a:xfrm>
          </p:grpSpPr>
          <p:sp>
            <p:nvSpPr>
              <p:cNvPr id="81" name=""/>
              <p:cNvSpPr/>
              <p:nvPr/>
            </p:nvSpPr>
            <p:spPr>
              <a:xfrm>
                <a:off x="7318440" y="3512880"/>
                <a:ext cx="1514160" cy="90936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382160" y="3607920"/>
                <a:ext cx="1383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mod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equ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6675480" y="2566800"/>
              <a:ext cx="1079280" cy="620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67920" y="26776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079960" y="2227320"/>
              <a:ext cx="1270080" cy="909360"/>
              <a:chOff x="5079960" y="2227320"/>
              <a:chExt cx="1270080" cy="909360"/>
            </a:xfrm>
          </p:grpSpPr>
          <p:sp>
            <p:nvSpPr>
              <p:cNvPr id="86" name=""/>
              <p:cNvSpPr/>
              <p:nvPr/>
            </p:nvSpPr>
            <p:spPr>
              <a:xfrm>
                <a:off x="5079960" y="2227320"/>
                <a:ext cx="1270080" cy="90936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162760" y="2323800"/>
                <a:ext cx="1101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ti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stepp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234120" y="2876040"/>
              <a:ext cx="490320" cy="115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19920" y="3925440"/>
              <a:ext cx="477720" cy="274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05560" y="3065040"/>
              <a:ext cx="331920" cy="577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9840" y="3455640"/>
              <a:ext cx="1079280" cy="620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2280" y="35668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11640" y="3057120"/>
              <a:ext cx="604800" cy="490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40720" y="4734000"/>
            <a:ext cx="4098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tightly-coupled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ess flexible, exten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re-use is diffic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well-understood by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2600" y="4734000"/>
            <a:ext cx="329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oosely-coupled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more flexible, exten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high re-use pot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new to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8480" y="2227320"/>
            <a:ext cx="4115520" cy="2193840"/>
            <a:chOff x="528480" y="2227320"/>
            <a:chExt cx="4115520" cy="2193840"/>
          </a:xfrm>
        </p:grpSpPr>
        <p:sp>
          <p:nvSpPr>
            <p:cNvPr id="97" name=""/>
            <p:cNvSpPr/>
            <p:nvPr/>
          </p:nvSpPr>
          <p:spPr>
            <a:xfrm>
              <a:off x="528480" y="2227320"/>
              <a:ext cx="2367000" cy="219384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2000" y="2324160"/>
              <a:ext cx="200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timestep loop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1440" y="2685960"/>
              <a:ext cx="159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f ( test1 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1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9280" y="3371760"/>
              <a:ext cx="2018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lse if ( test2 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2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4160" y="392112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33640" y="2876400"/>
              <a:ext cx="1352520" cy="1314720"/>
            </a:xfrm>
            <a:prstGeom prst="cloudCallout">
              <a:avLst>
                <a:gd name="adj1" fmla="val -76759"/>
                <a:gd name="adj2" fmla="val -23310"/>
              </a:avLst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57680" y="2743200"/>
              <a:ext cx="1752480" cy="1523880"/>
            </a:xfrm>
            <a:prstGeom prst="cloudCallout">
              <a:avLst>
                <a:gd name="adj1" fmla="val -66305"/>
                <a:gd name="adj2" fmla="val 25523"/>
              </a:avLst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0240" y="2949480"/>
              <a:ext cx="1823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h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hard-coded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94A1-AE0C-4389-A053-70950D4DD7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RAI ALPS application combines three physics packages with local time refin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44160" y="1562040"/>
            <a:ext cx="8530920" cy="2251800"/>
            <a:chOff x="344160" y="1562040"/>
            <a:chExt cx="8530920" cy="2251800"/>
          </a:xfrm>
        </p:grpSpPr>
        <p:sp>
          <p:nvSpPr>
            <p:cNvPr id="107" name=""/>
            <p:cNvSpPr/>
            <p:nvPr/>
          </p:nvSpPr>
          <p:spPr>
            <a:xfrm>
              <a:off x="4506120" y="2957400"/>
              <a:ext cx="1227600" cy="703800"/>
            </a:xfrm>
            <a:prstGeom prst="rect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Gradient</a:t>
              </a:r>
              <a:br>
                <a:rPr sz="2000"/>
              </a:b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55840" y="2805120"/>
              <a:ext cx="1439640" cy="1008720"/>
            </a:xfrm>
            <a:prstGeom prst="rect">
              <a:avLst/>
            </a:prstGeom>
            <a:noFill/>
            <a:ln w="28440">
              <a:solidFill>
                <a:srgbClr val="4f7e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Berger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Rigoutsos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Clust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18320" y="2957400"/>
              <a:ext cx="1256760" cy="703800"/>
            </a:xfrm>
            <a:prstGeom prst="rect">
              <a:avLst/>
            </a:prstGeom>
            <a:noFill/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77777"/>
                  </a:solidFill>
                  <a:latin typeface="Arial"/>
                </a:rPr>
                <a:t>Load</a:t>
              </a:r>
              <a:br>
                <a:rPr sz="2000"/>
              </a:br>
              <a:r>
                <a:rPr b="1" lang="en-US" sz="2000" spc="-1" strike="noStrike">
                  <a:solidFill>
                    <a:srgbClr val="777777"/>
                  </a:solidFill>
                  <a:latin typeface="Arial"/>
                </a:rPr>
                <a:t>Balanc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38520" y="1562040"/>
              <a:ext cx="2230560" cy="703800"/>
            </a:xfrm>
            <a:prstGeom prst="rect">
              <a:avLst/>
            </a:prstGeom>
            <a:noFill/>
            <a:ln w="28440">
              <a:solidFill>
                <a:srgbClr val="4f7e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Time Refinement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Integ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4160" y="2890800"/>
              <a:ext cx="1581120" cy="703800"/>
            </a:xfrm>
            <a:prstGeom prst="rect">
              <a:avLst/>
            </a:prstGeom>
            <a:noFill/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Hierarchy</a:t>
              </a:r>
              <a:br>
                <a:rPr sz="2000"/>
              </a:b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29920" y="1562040"/>
              <a:ext cx="1523520" cy="703800"/>
            </a:xfrm>
            <a:prstGeom prst="rect">
              <a:avLst/>
            </a:prstGeom>
            <a:noFill/>
            <a:ln w="28440">
              <a:solidFill>
                <a:srgbClr val="0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0c0"/>
                  </a:solidFill>
                  <a:latin typeface="Arial"/>
                </a:rPr>
                <a:t>Regridding</a:t>
              </a:r>
              <a:br>
                <a:rPr sz="2000"/>
              </a:br>
              <a:r>
                <a:rPr b="1" lang="en-US" sz="2000" spc="-1" strike="noStrike">
                  <a:solidFill>
                    <a:srgbClr val="00c0c0"/>
                  </a:solidFill>
                  <a:latin typeface="Arial"/>
                </a:rPr>
                <a:t>Algorit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" name=""/>
            <p:cNvCxnSpPr>
              <a:stCxn id="110" idx="2"/>
              <a:endCxn id="111" idx="0"/>
            </p:cNvCxnSpPr>
            <p:nvPr/>
          </p:nvCxnSpPr>
          <p:spPr>
            <a:xfrm flipH="1">
              <a:off x="1134000" y="2306160"/>
              <a:ext cx="1819800" cy="570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0" idx="3"/>
              <a:endCxn id="112" idx="1"/>
            </p:cNvCxnSpPr>
            <p:nvPr/>
          </p:nvCxnSpPr>
          <p:spPr>
            <a:xfrm>
              <a:off x="4097160" y="1926720"/>
              <a:ext cx="1803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" name=""/>
            <p:cNvCxnSpPr>
              <a:stCxn id="112" idx="2"/>
              <a:endCxn id="107" idx="0"/>
            </p:cNvCxnSpPr>
            <p:nvPr/>
          </p:nvCxnSpPr>
          <p:spPr>
            <a:xfrm flipH="1">
              <a:off x="5120280" y="2306160"/>
              <a:ext cx="1572120" cy="637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>
              <a:stCxn id="112" idx="2"/>
              <a:endCxn id="108" idx="0"/>
            </p:cNvCxnSpPr>
            <p:nvPr/>
          </p:nvCxnSpPr>
          <p:spPr>
            <a:xfrm flipH="1">
              <a:off x="6676200" y="2306160"/>
              <a:ext cx="16560" cy="48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" name=""/>
            <p:cNvCxnSpPr>
              <a:stCxn id="112" idx="2"/>
              <a:endCxn id="109" idx="0"/>
            </p:cNvCxnSpPr>
            <p:nvPr/>
          </p:nvCxnSpPr>
          <p:spPr>
            <a:xfrm>
              <a:off x="6692760" y="2306160"/>
              <a:ext cx="1554480" cy="637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8" name=""/>
          <p:cNvGrpSpPr/>
          <p:nvPr/>
        </p:nvGrpSpPr>
        <p:grpSpPr>
          <a:xfrm>
            <a:off x="6772320" y="4735440"/>
            <a:ext cx="2179440" cy="1008720"/>
            <a:chOff x="6772320" y="4735440"/>
            <a:chExt cx="2179440" cy="1008720"/>
          </a:xfrm>
        </p:grpSpPr>
        <p:sp>
          <p:nvSpPr>
            <p:cNvPr id="119" name=""/>
            <p:cNvSpPr/>
            <p:nvPr/>
          </p:nvSpPr>
          <p:spPr>
            <a:xfrm>
              <a:off x="7088400" y="4735440"/>
              <a:ext cx="1863360" cy="100872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Ion Advection</a:t>
              </a:r>
              <a:br>
                <a:rPr sz="2000"/>
              </a:b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Numerical</a:t>
              </a:r>
              <a:br>
                <a:rPr sz="2000"/>
              </a:b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Rout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21" idx="3"/>
              <a:endCxn id="119" idx="1"/>
            </p:cNvCxnSpPr>
            <p:nvPr/>
          </p:nvCxnSpPr>
          <p:spPr>
            <a:xfrm>
              <a:off x="6772320" y="5249520"/>
              <a:ext cx="288000" cy="3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326160" y="4367160"/>
            <a:ext cx="2751480" cy="1516680"/>
            <a:chOff x="326160" y="4367160"/>
            <a:chExt cx="2751480" cy="1516680"/>
          </a:xfrm>
        </p:grpSpPr>
        <p:sp>
          <p:nvSpPr>
            <p:cNvPr id="123" name=""/>
            <p:cNvSpPr/>
            <p:nvPr/>
          </p:nvSpPr>
          <p:spPr>
            <a:xfrm>
              <a:off x="326160" y="4875120"/>
              <a:ext cx="1665000" cy="1008720"/>
            </a:xfrm>
            <a:prstGeom prst="rect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Light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pag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out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25" idx="2"/>
              <a:endCxn id="123" idx="0"/>
            </p:cNvCxnSpPr>
            <p:nvPr/>
          </p:nvCxnSpPr>
          <p:spPr>
            <a:xfrm flipH="1">
              <a:off x="1158120" y="4367160"/>
              <a:ext cx="1919880" cy="494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6" name=""/>
          <p:cNvGrpSpPr/>
          <p:nvPr/>
        </p:nvGrpSpPr>
        <p:grpSpPr>
          <a:xfrm>
            <a:off x="2348280" y="4367160"/>
            <a:ext cx="1709280" cy="1305360"/>
            <a:chOff x="2348280" y="4367160"/>
            <a:chExt cx="1709280" cy="1305360"/>
          </a:xfrm>
        </p:grpSpPr>
        <p:sp>
          <p:nvSpPr>
            <p:cNvPr id="127" name=""/>
            <p:cNvSpPr/>
            <p:nvPr/>
          </p:nvSpPr>
          <p:spPr>
            <a:xfrm>
              <a:off x="2348280" y="4968720"/>
              <a:ext cx="1709280" cy="703800"/>
            </a:xfrm>
            <a:prstGeom prst="rect">
              <a:avLst/>
            </a:prstGeom>
            <a:noFill/>
            <a:ln w="28440">
              <a:solidFill>
                <a:srgbClr val="00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000"/>
                  </a:solidFill>
                  <a:latin typeface="Arial"/>
                </a:rPr>
                <a:t>Electrostatic</a:t>
              </a:r>
              <a:br>
                <a:rPr sz="2000"/>
              </a:br>
              <a:r>
                <a:rPr b="1" lang="en-US" sz="2000" spc="-1" strike="noStrike">
                  <a:solidFill>
                    <a:srgbClr val="00c000"/>
                  </a:solidFill>
                  <a:latin typeface="Arial"/>
                </a:rPr>
                <a:t>Field Sol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5" idx="2"/>
              <a:endCxn id="127" idx="0"/>
            </p:cNvCxnSpPr>
            <p:nvPr/>
          </p:nvCxnSpPr>
          <p:spPr>
            <a:xfrm>
              <a:off x="3077640" y="4367160"/>
              <a:ext cx="126360" cy="588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1" name=""/>
          <p:cNvSpPr/>
          <p:nvPr/>
        </p:nvSpPr>
        <p:spPr>
          <a:xfrm>
            <a:off x="4527000" y="4732200"/>
            <a:ext cx="2216880" cy="100872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onservative</a:t>
            </a:r>
            <a:br>
              <a:rPr sz="2000"/>
            </a:b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Hyperbolic Level</a:t>
            </a:r>
            <a:br>
              <a:rPr sz="2000"/>
            </a:b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Integ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60360" y="2306520"/>
            <a:ext cx="3475440" cy="2411280"/>
            <a:chOff x="2160360" y="2306520"/>
            <a:chExt cx="3475440" cy="2411280"/>
          </a:xfrm>
        </p:grpSpPr>
        <p:cxnSp>
          <p:nvCxnSpPr>
            <p:cNvPr id="130" name=""/>
            <p:cNvCxnSpPr>
              <a:stCxn id="125" idx="2"/>
              <a:endCxn id="121" idx="0"/>
            </p:cNvCxnSpPr>
            <p:nvPr/>
          </p:nvCxnSpPr>
          <p:spPr>
            <a:xfrm>
              <a:off x="3077640" y="4366800"/>
              <a:ext cx="2558520" cy="351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/>
            <p:nvPr/>
          </p:nvSpPr>
          <p:spPr>
            <a:xfrm>
              <a:off x="2160360" y="3622680"/>
              <a:ext cx="1835640" cy="703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aser-Plasma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teg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10" idx="2"/>
              <a:endCxn id="125" idx="0"/>
            </p:cNvCxnSpPr>
            <p:nvPr/>
          </p:nvCxnSpPr>
          <p:spPr>
            <a:xfrm>
              <a:off x="2954160" y="2306520"/>
              <a:ext cx="124560" cy="1302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07" idx="1"/>
              <a:endCxn id="125" idx="0"/>
            </p:cNvCxnSpPr>
            <p:nvPr/>
          </p:nvCxnSpPr>
          <p:spPr>
            <a:xfrm flipH="1">
              <a:off x="3078000" y="3322440"/>
              <a:ext cx="140076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3108960" y="5713560"/>
            <a:ext cx="3262320" cy="845280"/>
            <a:chOff x="3108960" y="5713560"/>
            <a:chExt cx="3262320" cy="845280"/>
          </a:xfrm>
        </p:grpSpPr>
        <p:sp>
          <p:nvSpPr>
            <p:cNvPr id="134" name=""/>
            <p:cNvSpPr/>
            <p:nvPr/>
          </p:nvSpPr>
          <p:spPr>
            <a:xfrm>
              <a:off x="3108960" y="6099120"/>
              <a:ext cx="3262320" cy="45972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Poisson Hierarchy Sol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7" idx="2"/>
              <a:endCxn id="134" idx="0"/>
            </p:cNvCxnSpPr>
            <p:nvPr/>
          </p:nvCxnSpPr>
          <p:spPr>
            <a:xfrm>
              <a:off x="3203640" y="5713560"/>
              <a:ext cx="1537200" cy="419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76D-E27E-4349-80FF-B3461FE622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6T09:34:19Z</dcterms:created>
  <dc:creator>Scott Kohn</dc:creator>
  <dc:description/>
  <dc:language>en-US</dc:language>
  <cp:lastModifiedBy>skohn</cp:lastModifiedBy>
  <cp:lastPrinted>2000-11-06T21:04:45Z</cp:lastPrinted>
  <dcterms:modified xsi:type="dcterms:W3CDTF">2000-11-06T21:04:53Z</dcterms:modified>
  <cp:revision>385</cp:revision>
  <dc:subject>CCA Interoperability and the CORBA IDL</dc:subject>
  <dc:title>CCA Interoperability</dc:title>
</cp:coreProperties>
</file>