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6E2A-34BC-474E-B1D3-A41C22E78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8072-AB5E-4AE2-B26E-D0375B299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6B1D-1404-4F5D-AF71-D63988651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5AF9-CCCD-4B54-A3CC-CCD762827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13A8-19D3-44F7-985E-4850FB1A1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EF1F-AA66-4B15-B61E-8A6C50276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C057-97CB-46AA-B561-5FFD9C104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2DC9-D672-4D97-80D8-1A18F4021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3AEC-EC77-4098-B921-9644AF684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1DCD-2688-4901-AB74-659C4A0F3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4095-AC2E-49ED-A8A4-28CF76137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2E0A-CE27-41F0-9C8F-4B89EEF70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969B9-E540-49D8-A4A7-184C9D0DEB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700200"/>
            <a:ext cx="7391520" cy="5400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20800" y="189000"/>
            <a:ext cx="100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urce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00120" y="380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32080" y="126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lter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228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24240" y="184320"/>
            <a:ext cx="11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71800" y="388800"/>
            <a:ext cx="0" cy="52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24120" y="184320"/>
            <a:ext cx="1024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r Char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380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91520" y="18432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iew Configuration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29440" y="380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534520" y="19494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D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7695720" y="2057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00" y="730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oad/Save Data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61840" y="990720"/>
            <a:ext cx="24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00" y="117468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on Filters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1568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ipeline Brows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6200" y="1752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3244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bject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4844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640080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readshee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809880" y="5714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29400" y="640080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Y Plo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010280" y="56383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18:26:05Z</dcterms:created>
  <dc:creator> Amy Squillacote</dc:creator>
  <dc:description/>
  <dc:language>en-US</dc:language>
  <cp:lastModifiedBy> Amy Squillacote</cp:lastModifiedBy>
  <dcterms:modified xsi:type="dcterms:W3CDTF">2007-08-23T18:58:56Z</dcterms:modified>
  <cp:revision>2</cp:revision>
  <dc:subject/>
  <dc:title>Slide 1</dc:title>
</cp:coreProperties>
</file>