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DE4B-5481-47D2-B0B0-83D81BB1F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54AA5-867E-4FB6-9852-2677D706A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79EF-F735-4501-AFBA-40AD547D64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E8CAAE-FA1E-493D-A061-A56A5BFFDF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C7BB0C-18FF-4A5D-944C-04E22AB21C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BBC58B-08B6-471B-AB70-4717206B3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A116E-E6D7-4AC0-B8BE-0D3A3404F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9A5F72-D5D7-4ABD-8A33-585700C62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DC13CF-93D1-492A-9AB2-8256709C0E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B7AFBF-6C45-4682-80F4-665F3E7EE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5BDBD2-5363-4B15-862F-73B1C26810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E7F19-B81A-4B9B-ACC4-E94F63486B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FEE784-7D80-496E-8488-6928E124E5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34E46-1E8E-4084-8D62-3693EE58C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EA62F-4B82-4797-A47E-AB3DED6BA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1D80E-6F0C-4A53-84BC-23EA761A13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65508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397560" y="190476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91260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65508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397560" y="4093920"/>
            <a:ext cx="2611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C9BCDE-5D7F-4710-8613-D4D917EAB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E9481-46DB-4D8D-A81C-7E415260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AC12C-A7A6-404F-AD7B-77E65895DB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94B11-C9D1-4E54-9ADC-13C5EB284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871200" y="189000"/>
            <a:ext cx="81630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BC10-5104-4A1C-BCDF-8133F8510D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42354-556A-4DE5-9263-AF8F4186DA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68800" y="409392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38D71-335D-498D-8AA4-3EF224A25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68800" y="1904760"/>
            <a:ext cx="39578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912600" y="4093920"/>
            <a:ext cx="8110440" cy="199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4967C-352A-4CDF-9E2D-970A9DB186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7240" cy="6867360"/>
            <a:chOff x="0" y="0"/>
            <a:chExt cx="9147240" cy="6867360"/>
          </a:xfrm>
        </p:grpSpPr>
        <p:sp>
          <p:nvSpPr>
            <p:cNvPr id="1" name=""/>
            <p:cNvSpPr/>
            <p:nvPr/>
          </p:nvSpPr>
          <p:spPr>
            <a:xfrm>
              <a:off x="0" y="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152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04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57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09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62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914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1066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219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1371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1523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1676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828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981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2133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2286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2438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2590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2743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2895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048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200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352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05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657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809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3962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4114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4267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4419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4572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4724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4876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5029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5181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5334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5486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5638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5791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943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6095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6248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6400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6553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6705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68580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0102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1629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73152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74674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76201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77724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79246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0773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82296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3818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5345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868680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39080" y="9360"/>
              <a:ext cx="7632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991720" y="9360"/>
              <a:ext cx="75960" cy="6858000"/>
            </a:xfrm>
            <a:prstGeom prst="rect">
              <a:avLst/>
            </a:prstGeom>
            <a:solidFill>
              <a:srgbClr val="dddd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68436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0" y="1716120"/>
              <a:ext cx="6950160" cy="7452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71200" y="189000"/>
            <a:ext cx="8163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912600" y="1904760"/>
            <a:ext cx="8110440" cy="419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3366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33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1"/>
          </p:nvPr>
        </p:nvSpPr>
        <p:spPr>
          <a:xfrm>
            <a:off x="1152360" y="62866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2"/>
          </p:nvPr>
        </p:nvSpPr>
        <p:spPr>
          <a:xfrm>
            <a:off x="3590640" y="62866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3"/>
          </p:nvPr>
        </p:nvSpPr>
        <p:spPr>
          <a:xfrm>
            <a:off x="7019640" y="62866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37146E-7A14-47F9-AFD3-05BEC24CBDAB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"/>
          <p:cNvGrpSpPr/>
          <p:nvPr/>
        </p:nvGrpSpPr>
        <p:grpSpPr>
          <a:xfrm>
            <a:off x="-3240" y="0"/>
            <a:ext cx="9147240" cy="6867360"/>
            <a:chOff x="-3240" y="0"/>
            <a:chExt cx="9147240" cy="6867360"/>
          </a:xfrm>
        </p:grpSpPr>
        <p:grpSp>
          <p:nvGrpSpPr>
            <p:cNvPr id="105" name=""/>
            <p:cNvGrpSpPr/>
            <p:nvPr/>
          </p:nvGrpSpPr>
          <p:grpSpPr>
            <a:xfrm>
              <a:off x="-3240" y="0"/>
              <a:ext cx="9068040" cy="6867360"/>
              <a:chOff x="-3240" y="0"/>
              <a:chExt cx="9068040" cy="6867360"/>
            </a:xfrm>
          </p:grpSpPr>
          <p:sp>
            <p:nvSpPr>
              <p:cNvPr id="106" name=""/>
              <p:cNvSpPr/>
              <p:nvPr/>
            </p:nvSpPr>
            <p:spPr>
              <a:xfrm>
                <a:off x="-3240" y="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49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>
                <a:off x="301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>
                <a:off x="453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606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758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911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1063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1216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1368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>
                <a:off x="1521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>
                <a:off x="1673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>
                <a:off x="1825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>
                <a:off x="1978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2130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2282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2435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2587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2739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2892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>
                <a:off x="3044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>
                <a:off x="3197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>
                <a:off x="3349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>
                <a:off x="3502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>
                <a:off x="3654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"/>
              <p:cNvSpPr/>
              <p:nvPr/>
            </p:nvSpPr>
            <p:spPr>
              <a:xfrm>
                <a:off x="3807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"/>
              <p:cNvSpPr/>
              <p:nvPr/>
            </p:nvSpPr>
            <p:spPr>
              <a:xfrm>
                <a:off x="3959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>
                <a:off x="4111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>
                <a:off x="4264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>
                <a:off x="4416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>
                <a:off x="4568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>
                <a:off x="4721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4873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5025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5178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5330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5483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5635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5788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940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6093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7" name=""/>
              <p:cNvSpPr/>
              <p:nvPr/>
            </p:nvSpPr>
            <p:spPr>
              <a:xfrm>
                <a:off x="6245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" name=""/>
              <p:cNvSpPr/>
              <p:nvPr/>
            </p:nvSpPr>
            <p:spPr>
              <a:xfrm>
                <a:off x="6397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" name=""/>
              <p:cNvSpPr/>
              <p:nvPr/>
            </p:nvSpPr>
            <p:spPr>
              <a:xfrm>
                <a:off x="6550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0" name=""/>
              <p:cNvSpPr/>
              <p:nvPr/>
            </p:nvSpPr>
            <p:spPr>
              <a:xfrm>
                <a:off x="6702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68547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70074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71596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73119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74646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76168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7691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79218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>
                <a:off x="80740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>
                <a:off x="82263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>
                <a:off x="83790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>
                <a:off x="85312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>
                <a:off x="868356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>
                <a:off x="8836200" y="9360"/>
                <a:ext cx="7596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988480" y="9360"/>
                <a:ext cx="76320" cy="6858000"/>
              </a:xfrm>
              <a:prstGeom prst="rect">
                <a:avLst/>
              </a:prstGeom>
              <a:solidFill>
                <a:srgbClr val="ddddd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6" name=""/>
            <p:cNvSpPr/>
            <p:nvPr/>
          </p:nvSpPr>
          <p:spPr>
            <a:xfrm>
              <a:off x="681120" y="0"/>
              <a:ext cx="8462880" cy="6858000"/>
            </a:xfrm>
            <a:prstGeom prst="rect">
              <a:avLst/>
            </a:prstGeom>
            <a:solidFill>
              <a:srgbClr val="eaeaea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0" y="0"/>
              <a:ext cx="9144000" cy="509760"/>
            </a:xfrm>
            <a:prstGeom prst="rect">
              <a:avLst/>
            </a:prstGeom>
            <a:solidFill>
              <a:srgbClr val="336699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3505320" y="2590920"/>
            <a:ext cx="4892400" cy="75960"/>
          </a:xfrm>
          <a:prstGeom prst="rect">
            <a:avLst/>
          </a:prstGeom>
          <a:solidFill>
            <a:srgbClr val="3366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779400" y="1094040"/>
            <a:ext cx="76788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248F3D-14EB-4646-B7A8-330FA13DD0E2}" type="slidenum">
              <a:rPr b="0" lang="en-US" sz="14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601"/>
              </a:spcBef>
              <a:buClr>
                <a:srgbClr val="003366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85000"/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779400" y="1764360"/>
            <a:ext cx="7678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PRIME: </a:t>
            </a:r>
            <a:r>
              <a:rPr b="0" lang="zh-CN" sz="4400" spc="-1" strike="noStrike">
                <a:solidFill>
                  <a:srgbClr val="003366"/>
                </a:solidFill>
                <a:latin typeface="HGP創英角ﾎﾟｯﾌﾟ体"/>
                <a:ea typeface="HGP創英角ﾎﾟｯﾌﾟ体"/>
              </a:rPr>
              <a:t>予測入力システム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2916360" y="2860560"/>
            <a:ext cx="5541840" cy="311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小松弘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2003-05-01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http://taiyaki.org/prime/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東京工業大学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12" name="" descr="www.taiyaki.org"/>
          <p:cNvPicPr/>
          <p:nvPr/>
        </p:nvPicPr>
        <p:blipFill>
          <a:blip r:embed="rId1"/>
          <a:stretch/>
        </p:blipFill>
        <p:spPr>
          <a:xfrm>
            <a:off x="8244000" y="5950080"/>
            <a:ext cx="777600" cy="606240"/>
          </a:xfrm>
          <a:prstGeom prst="rect">
            <a:avLst/>
          </a:prstGeom>
          <a:ln w="0">
            <a:noFill/>
          </a:ln>
        </p:spPr>
      </p:pic>
      <p:sp>
        <p:nvSpPr>
          <p:cNvPr id="213" name=""/>
          <p:cNvSpPr/>
          <p:nvPr/>
        </p:nvSpPr>
        <p:spPr>
          <a:xfrm>
            <a:off x="7118280" y="6477120"/>
            <a:ext cx="1858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http://taiyaki.or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予測入力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「こんにちは」の入力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216" name=""/>
          <p:cNvGrpSpPr/>
          <p:nvPr/>
        </p:nvGrpSpPr>
        <p:grpSpPr>
          <a:xfrm>
            <a:off x="458640" y="2727360"/>
            <a:ext cx="1963440" cy="934920"/>
            <a:chOff x="458640" y="2727360"/>
            <a:chExt cx="1963440" cy="934920"/>
          </a:xfrm>
        </p:grpSpPr>
        <p:sp>
          <p:nvSpPr>
            <p:cNvPr id="217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92120" y="3039120"/>
              <a:ext cx="1929960" cy="62280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ミュニケーション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候補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小松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92120" y="2727360"/>
              <a:ext cx="1929960" cy="9349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00400" y="2768760"/>
              <a:ext cx="6404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58640" y="307800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728280" y="2775240"/>
              <a:ext cx="222840" cy="24912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2638440" y="2725560"/>
            <a:ext cx="1964880" cy="933480"/>
            <a:chOff x="2638440" y="2725560"/>
            <a:chExt cx="1964880" cy="933480"/>
          </a:xfrm>
        </p:grpSpPr>
        <p:sp>
          <p:nvSpPr>
            <p:cNvPr id="224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2673360" y="3036600"/>
              <a:ext cx="192996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2673360" y="2725560"/>
              <a:ext cx="192996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71980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263844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2882160" y="2783520"/>
              <a:ext cx="4435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4776480" y="2725560"/>
            <a:ext cx="1963800" cy="933480"/>
            <a:chOff x="4776480" y="2725560"/>
            <a:chExt cx="1963800" cy="933480"/>
          </a:xfrm>
        </p:grpSpPr>
        <p:sp>
          <p:nvSpPr>
            <p:cNvPr id="231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4809960" y="3036600"/>
              <a:ext cx="1930320" cy="62244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今週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</a:t>
              </a:r>
              <a:br>
                <a:rPr sz="1600"/>
              </a:b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(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コンピュータ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)…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4809960" y="2725560"/>
              <a:ext cx="1930320" cy="933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856040" y="2768400"/>
              <a:ext cx="762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[ </a:t>
              </a: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 </a:t>
              </a:r>
              <a:r>
                <a:rPr b="1" lang="en-US" sz="1600" spc="-1" strike="noStrike">
                  <a:solidFill>
                    <a:srgbClr val="000000"/>
                  </a:solidFill>
                  <a:latin typeface="Verdana"/>
                </a:rPr>
                <a:t>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76480" y="3076920"/>
              <a:ext cx="18072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5620680" y="3118320"/>
              <a:ext cx="100008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ffffff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7" name=""/>
          <p:cNvGrpSpPr/>
          <p:nvPr/>
        </p:nvGrpSpPr>
        <p:grpSpPr>
          <a:xfrm>
            <a:off x="6983640" y="2725560"/>
            <a:ext cx="1931400" cy="935280"/>
            <a:chOff x="6983640" y="2725560"/>
            <a:chExt cx="1931400" cy="935280"/>
          </a:xfrm>
        </p:grpSpPr>
        <p:sp>
          <p:nvSpPr>
            <p:cNvPr id="238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969696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6983640" y="3036960"/>
              <a:ext cx="1931400" cy="623520"/>
            </a:xfrm>
            <a:prstGeom prst="rect">
              <a:avLst/>
            </a:prstGeom>
            <a:solidFill>
              <a:srgbClr val="eaeae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6983640" y="2725560"/>
              <a:ext cx="1931400" cy="93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7121520" y="2761560"/>
              <a:ext cx="790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600" spc="-1" strike="noStrike">
                  <a:solidFill>
                    <a:srgbClr val="000000"/>
                  </a:solidFill>
                  <a:latin typeface="Verdana"/>
                </a:rPr>
                <a:t>こんにちは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8017200" y="2775960"/>
              <a:ext cx="117720" cy="238680"/>
            </a:xfrm>
            <a:prstGeom prst="rect">
              <a:avLst/>
            </a:prstGeom>
            <a:solidFill>
              <a:srgbClr val="00808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"/>
          <p:cNvSpPr/>
          <p:nvPr/>
        </p:nvSpPr>
        <p:spPr>
          <a:xfrm>
            <a:off x="240192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456264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723000" y="3373560"/>
            <a:ext cx="287280" cy="288720"/>
          </a:xfrm>
          <a:prstGeom prst="rightArrow">
            <a:avLst>
              <a:gd name="adj1" fmla="val 49454"/>
              <a:gd name="adj2" fmla="val 5138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1426320" y="2708280"/>
            <a:ext cx="8510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に合わせて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24280" y="2708280"/>
            <a:ext cx="6984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表示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5857200" y="2708280"/>
            <a:ext cx="774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候補を選んで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208720" y="2708280"/>
            <a:ext cx="655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(</a:t>
            </a:r>
            <a:r>
              <a:rPr b="0" lang="zh-CN" sz="1000" spc="-1" strike="noStrike">
                <a:solidFill>
                  <a:srgbClr val="000000"/>
                </a:solidFill>
                <a:latin typeface="Verdana"/>
              </a:rPr>
              <a:t>入力完了</a:t>
            </a: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文節変換の実現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grpSp>
        <p:nvGrpSpPr>
          <p:cNvPr id="251" name=""/>
          <p:cNvGrpSpPr/>
          <p:nvPr/>
        </p:nvGrpSpPr>
        <p:grpSpPr>
          <a:xfrm>
            <a:off x="1403280" y="2708280"/>
            <a:ext cx="5903640" cy="504720"/>
            <a:chOff x="1403280" y="2708280"/>
            <a:chExt cx="5903640" cy="504720"/>
          </a:xfrm>
        </p:grpSpPr>
        <p:sp>
          <p:nvSpPr>
            <p:cNvPr id="252" name=""/>
            <p:cNvSpPr/>
            <p:nvPr/>
          </p:nvSpPr>
          <p:spPr>
            <a:xfrm>
              <a:off x="5867280" y="2708280"/>
              <a:ext cx="143964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85928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3995640" y="2708280"/>
              <a:ext cx="7696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987640" y="2708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195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03280" y="2708280"/>
              <a:ext cx="6984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484360" y="3429000"/>
            <a:ext cx="4464000" cy="504720"/>
            <a:chOff x="2484360" y="3429000"/>
            <a:chExt cx="4464000" cy="504720"/>
          </a:xfrm>
        </p:grpSpPr>
        <p:sp>
          <p:nvSpPr>
            <p:cNvPr id="259" name=""/>
            <p:cNvSpPr/>
            <p:nvPr/>
          </p:nvSpPr>
          <p:spPr>
            <a:xfrm>
              <a:off x="2484360" y="342900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私の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492360" y="3429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名前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4787640" y="3429000"/>
              <a:ext cx="216072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中野じゃな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2" name=""/>
          <p:cNvGrpSpPr/>
          <p:nvPr/>
        </p:nvGrpSpPr>
        <p:grpSpPr>
          <a:xfrm>
            <a:off x="2484360" y="5372280"/>
            <a:ext cx="5089680" cy="504720"/>
            <a:chOff x="2484360" y="5372280"/>
            <a:chExt cx="5089680" cy="504720"/>
          </a:xfrm>
        </p:grpSpPr>
        <p:sp>
          <p:nvSpPr>
            <p:cNvPr id="263" name=""/>
            <p:cNvSpPr/>
            <p:nvPr/>
          </p:nvSpPr>
          <p:spPr>
            <a:xfrm>
              <a:off x="248436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3779640" y="5372280"/>
              <a:ext cx="151308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364000" y="537228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6659640" y="5372280"/>
              <a:ext cx="914400" cy="504720"/>
            </a:xfrm>
            <a:prstGeom prst="roundRect">
              <a:avLst>
                <a:gd name="adj" fmla="val 16667"/>
              </a:avLst>
            </a:prstGeom>
            <a:solidFill>
              <a:srgbClr val="ddddd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7" name=""/>
          <p:cNvGrpSpPr/>
          <p:nvPr/>
        </p:nvGrpSpPr>
        <p:grpSpPr>
          <a:xfrm>
            <a:off x="1403280" y="4653000"/>
            <a:ext cx="7199280" cy="504720"/>
            <a:chOff x="1403280" y="4653000"/>
            <a:chExt cx="7199280" cy="504720"/>
          </a:xfrm>
        </p:grpSpPr>
        <p:sp>
          <p:nvSpPr>
            <p:cNvPr id="268" name=""/>
            <p:cNvSpPr/>
            <p:nvPr/>
          </p:nvSpPr>
          <p:spPr>
            <a:xfrm>
              <a:off x="3203640" y="4653000"/>
              <a:ext cx="122400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日本語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291280" y="4653000"/>
              <a:ext cx="934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流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403280" y="4653000"/>
              <a:ext cx="9367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美し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241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449892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を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629928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に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7091280" y="4653000"/>
              <a:ext cx="71928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883640" y="4653000"/>
              <a:ext cx="718920" cy="504720"/>
            </a:xfrm>
            <a:prstGeom prst="roundRect">
              <a:avLst>
                <a:gd name="adj" fmla="val 16667"/>
              </a:avLst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Verdana"/>
                </a:rPr>
                <a:t>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80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Verdana"/>
              </a:rPr>
              <a:t>用言（動詞・形容詞）・助詞（の・が）等に対応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7" name=""/>
          <p:cNvSpPr/>
          <p:nvPr/>
        </p:nvSpPr>
        <p:spPr>
          <a:xfrm>
            <a:off x="1476360" y="328464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476360" y="522936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783400" y="6308640"/>
            <a:ext cx="2588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※</a:t>
            </a:r>
            <a:r>
              <a:rPr b="0" lang="zh-CN" sz="2000" spc="-1" strike="noStrike">
                <a:solidFill>
                  <a:srgbClr val="000000"/>
                </a:solidFill>
                <a:latin typeface="Verdana"/>
              </a:rPr>
              <a:t>単語の予測を考慮しない条件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eaeae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"/>
          <p:cNvSpPr/>
          <p:nvPr/>
        </p:nvSpPr>
        <p:spPr>
          <a:xfrm>
            <a:off x="3780000" y="5518080"/>
            <a:ext cx="511164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871200" y="859320"/>
            <a:ext cx="81630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3366"/>
                </a:solidFill>
                <a:latin typeface="Verdana"/>
              </a:rPr>
              <a:t>単語辞書の抜本的変更</a:t>
            </a:r>
            <a:endParaRPr b="0" lang="en-US" sz="4400" spc="-1" strike="noStrike">
              <a:solidFill>
                <a:srgbClr val="003366"/>
              </a:solidFill>
              <a:latin typeface="Verdana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2600" y="1904760"/>
            <a:ext cx="8110440" cy="346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品詞情報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単語の頻度に基づいた優先順位の追加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9a00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3200" spc="-1" strike="noStrike">
                <a:solidFill>
                  <a:srgbClr val="000000"/>
                </a:solidFill>
                <a:latin typeface="Verdana"/>
              </a:rPr>
              <a:t>フォーマットの変更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「ローマ字⇔単語」から「ひらがな⇔単語」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の揺れを吸収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5f5f5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800" spc="-1" strike="noStrike">
                <a:solidFill>
                  <a:srgbClr val="000000"/>
                </a:solidFill>
                <a:latin typeface="Verdana"/>
              </a:rPr>
              <a:t>ローマ字変換ライブラリを作成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3" name=""/>
          <p:cNvSpPr/>
          <p:nvPr/>
        </p:nvSpPr>
        <p:spPr>
          <a:xfrm>
            <a:off x="682560" y="5518080"/>
            <a:ext cx="2376720" cy="107964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84" name=""/>
          <p:cNvGraphicFramePr/>
          <p:nvPr/>
        </p:nvGraphicFramePr>
        <p:xfrm>
          <a:off x="611280" y="5445000"/>
          <a:ext cx="2376360" cy="1079640"/>
        </p:xfrm>
        <a:graphic>
          <a:graphicData uri="http://schemas.openxmlformats.org/drawingml/2006/table">
            <a:tbl>
              <a:tblPr/>
              <a:tblGrid>
                <a:gridCol w="1347840"/>
                <a:gridCol w="1028520"/>
              </a:tblGrid>
              <a:tr h="539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yosoku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5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ja-JP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shin’ai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85" name=""/>
          <p:cNvGraphicFramePr/>
          <p:nvPr/>
        </p:nvGraphicFramePr>
        <p:xfrm>
          <a:off x="3706920" y="5445000"/>
          <a:ext cx="5113080" cy="1079640"/>
        </p:xfrm>
        <a:graphic>
          <a:graphicData uri="http://schemas.openxmlformats.org/drawingml/2006/table">
            <a:tbl>
              <a:tblPr/>
              <a:tblGrid>
                <a:gridCol w="1296720"/>
                <a:gridCol w="863640"/>
                <a:gridCol w="1655640"/>
                <a:gridCol w="1297080"/>
              </a:tblGrid>
              <a:tr h="613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よそく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予測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サ行・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500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8f8f8"/>
                    </a:solidFill>
                  </a:tcPr>
                </a:tc>
              </a:tr>
              <a:tr h="466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しんあい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親愛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名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0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8f8f8"/>
                    </a:solidFill>
                  </a:tcPr>
                </a:tc>
              </a:tr>
            </a:tbl>
          </a:graphicData>
        </a:graphic>
      </p:graphicFrame>
      <p:sp>
        <p:nvSpPr>
          <p:cNvPr id="286" name=""/>
          <p:cNvSpPr/>
          <p:nvPr/>
        </p:nvSpPr>
        <p:spPr>
          <a:xfrm>
            <a:off x="2843280" y="5877000"/>
            <a:ext cx="914400" cy="761760"/>
          </a:xfrm>
          <a:custGeom>
            <a:avLst/>
            <a:gdLst>
              <a:gd name="textAreaLeft" fmla="*/ 142920 w 914400"/>
              <a:gd name="textAreaRight" fmla="*/ 800280 w 914400"/>
              <a:gd name="textAreaTop" fmla="*/ 190440 h 761760"/>
              <a:gd name="textAreaBottom" fmla="*/ 571320 h 76176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1T08:43:07Z</dcterms:created>
  <dc:creator>Hiroyuki Komatsu</dc:creator>
  <dc:description/>
  <dc:language>en-US</dc:language>
  <cp:lastModifiedBy>Hiroyuki Komatsu</cp:lastModifiedBy>
  <dcterms:modified xsi:type="dcterms:W3CDTF">2003-05-01T12:07:07Z</dcterms:modified>
  <cp:revision>2</cp:revision>
  <dc:subject/>
  <dc:title>PRIME: 予測入力システム</dc:title>
</cp:coreProperties>
</file>